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dt" idx="2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2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 type="sldNum" idx="2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6305-B63E-48A0-B2F0-E08721E03221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6317-EDC9-4E80-8211-5BE278470F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chichte als Vorsp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B452-55A4-4E67-85AF-A246B2CC928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tzwerk: „Kraft-Feld“ Vernetzung von drei sozialen Initiativen in Oberkärnten – Dorfservice, Familja, Vitam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FF70-B7A6-4261-9914-0D33FE0CE6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Dorfservicemitarbeiterin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8D71-9543-484E-B78E-EAF876EF84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ördergelder: Gesamtbudget 600.000,-- (Finanziert aus EU, Bundes, Landes, Gemeindemittel und Sponso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06AA-120A-4BCD-B075-DC0CCE56B1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209C-28C9-4FD8-BCC1-417321A7CD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zwerkaufbau – Kooperation und keine Konkurr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2E53-02A8-4041-9B10-0BA6F32435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5933-1482-44A3-8205-DCA58D951E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375C-90CA-431A-BE95-8B5743004B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alschaften von einander getrennte Talschaften Mölltal, Drautal, Lieser- Malta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Zentralraum Spittal, Lurnf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ee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Zwei Leader-Regio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1348-BF40-44C5-9B96-B1CA93CA3B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ücke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bote für ältere Menschen, die noch kein Pflegefall sind feh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orthilfe in Notsituationen nicht mehr mög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ätze für Kontaktpflege für ältere Men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nstrukture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chbarschaftshilfe schwerer organisier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F43B-8050-4A30-A9D1-5D106D4047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8A93-A759-4DFD-ABD6-2C4D157BAD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527-ED88-4F35-A17C-EB33328686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DAB5-F2C4-49D9-86D7-AA779D2C40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E78F-AFC3-4C92-BFD0-7342667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8D99B-6B20-4B53-A325-718904C5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21DF6-4C84-4378-BF51-47E25078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08543-D191-47B8-8073-91364BC6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0832-D6B9-4C2E-BBD0-4322C4A3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FE50-1D7E-4D94-BC5B-BAF402F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969C1-D019-45A9-A6E2-2CD0EB1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559C-4410-4ADE-8A9B-92560E2B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1C1F6-1176-4402-BD2B-DDA3A8C9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9E1EF-98B2-464A-ACB1-CE50EA279B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B7119-02FF-45F9-8C92-A7B317CF95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1A69-B24F-40A7-84AD-E6C37CA5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6A226-B7A8-4494-9822-532AC18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412DA-7C7B-43E3-B287-77F47D0D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36E4C-D856-473D-901E-B3C5C241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E701B-A99E-496C-BBF8-0309ECB4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9CD15-F5C5-440C-8974-2007AEDF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A0F6E-5AEF-4C21-AFB4-974D05BA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BF131-F665-4B79-ADE7-983A32E0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2594B-F228-40DB-9379-6EF7B1F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7B1D1E-2BF6-43E1-B267-D9C68A4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39865-7CAF-4ECE-A12B-554D858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FAF7-4A94-42AE-98AB-405E997782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74C98-8532-4139-9988-01398B7B8B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D10CD0-B14E-4CFF-BC8E-F2C72414F6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7B364C-0261-477C-985D-07D9D6D2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6BD5C7-5F9A-4059-B4A8-333182C4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76C31C-FE7A-48D9-B5A4-1C3CFF09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B90DF1-C35B-4544-A40B-B449E667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2C5FE-B07D-4AC5-B421-F614D87E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0AB6C6-772D-4B5D-8640-121A74CC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869CE4-ECA7-41EC-A333-C4E24178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73CE96-F328-4C48-BFC4-2251883B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BE6BF-84F1-4942-9535-BDA77897BF7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5A47E-D856-4176-BDBB-993ECE1B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8F6308-467B-4F99-B9FA-1B9E17F2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43FED3-34FB-45A5-9E85-074F71E0C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2673A-5574-4366-B6E7-8ABF288BF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1808-F4F4-494F-935D-4E95AA8A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4F14C-EB0B-440D-A99C-5CB50026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312A6-2403-4B33-A529-6C4DDC0A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6B6BD-474E-4096-AD49-35ED8C49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A5884-7B2F-47C2-AFD8-B980D22D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2DBBF-26A8-46C5-9184-CE2803D9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F3658-E333-4D1F-8CAF-57205CC3A64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9B53-B127-4E26-84A5-5CC8D086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A5759-6EDA-435C-8FF5-CDB5A3D7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4B16-93BC-4FCF-836A-78ECC4B0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7FADB-B8AA-44F0-85A5-23EBE7EA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88C30-5877-4020-8EAD-DEC00BAC47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2B334-AF79-42F0-BCF9-BBA5873A1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4E206-3B4F-44BD-86AA-22B2EF4C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C68E2-513C-42A3-A0A6-378E2AD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D13DF-34CD-400C-B732-FBA9E2B8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B2BEDE-1D8A-4FF5-999A-F6F9677E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D171B-9949-4D19-8697-84E0701D6AF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F6D9F4-CE1F-4021-832A-A020A716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702F4F-73B1-4AFA-B4A4-2FB13FE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770D3-26A5-4828-B6D5-D5B829EF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37D7D1-A76C-413C-A1C6-36B46676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FD2A7F-3C27-4EDB-87B7-7B3ADE61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951FEB-DBC8-4476-AF55-51892156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5890B-938E-45B2-AF3E-70DB85B90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9963C-0F43-4951-8050-7804FD6548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0C396-5923-4153-A07C-3216B22E8F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06E0-0406-4195-9038-E87EFC6DB9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5E1CD-0EF5-4409-8F91-B2FBE6B219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C43C-FAF9-49DE-AE82-8703CE9B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0C7E7-0945-40BC-9717-E1AD5626A4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6DD12-3D04-4B0D-A375-8203C38B35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3D2D1-DDD6-4F71-B14E-85AA1AF0A5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A8832-2AF0-4585-AA73-5078AA489E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E5CFE-183E-4DA7-A575-5D015EC28D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D797-6A57-4208-9A0E-8F3A4632A3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FADF-7B75-440B-A74A-0042B5CD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284E-9710-4A65-A265-141D2F4D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7FD7-761B-4001-B330-09A4D219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197C-DAF3-4C31-ADB1-A938F6D4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74D5-0577-4ABE-980A-3B2DC91C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C3E-ED77-4C7F-AD73-9F3E9833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9189-BA00-4CC8-B000-0A18DF31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167C-CC87-4AC4-9E2B-3DAFE2B6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7CC6-2EA6-4379-92F0-3AB7D8C6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AFBC-C858-4B9D-8D5E-8F966C6A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AEC4-C28E-4E4F-AA19-DCA8D0E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E8B5-1E55-4021-A5C6-8EB1CE2133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E67A6-67F8-4356-A130-C5B2AB4D6F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EDE36-2D85-449D-8574-8C716415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7A6AD-1E0A-46F1-9E0D-EE476D6A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DB55-840F-40ED-A191-BE048C33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AFDA4-BC15-4726-890E-92FCA957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89EE4-3086-4842-93D4-74B0CAF2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5C60B-386A-4084-AA7F-6E42838C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B06CC-F3B0-43FE-B5E9-932EA664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B20BB-944E-430C-B572-AE5A27B0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1DBEF-0204-4517-A828-9FA83255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AB454-EDCC-496D-8018-9A81FE64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CDCF2-9C2F-4C87-B769-8E10A231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6C5EA-965B-463B-803E-7E076A019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76EDA-E4F2-40EC-9DB1-5EE9DEA0C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C21F-B3C9-4C6B-AD69-32C65A2A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9F363-51F0-473B-8A0D-2ECBC4CB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26F6A-A0B1-40E0-A63C-4762B54B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08999-7751-408D-B4E3-40012B96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55F72-6EAF-42B4-B550-0B95F8FF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6C49A1-0B3E-4FCB-9A46-1C6E4B5F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597E8-5ECD-4E25-B57D-3E93A8DC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E2F17-59C4-4975-A87D-BBB8D53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26493-30B5-4975-A7B0-4B61E2D3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A8645-EA7C-4104-B7AA-D37DE4B3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17AF50-38A1-4DF3-B268-D4AE7358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424B-BD81-4682-9E0D-F4632BD4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7F9BD-7203-4134-811B-4807EF6A9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5AF5-7774-4546-B002-68C77D753C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A2085-6675-4D03-AD25-0BF305B7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C92C8-AE14-4021-80EC-BA259B42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F5E1-13A0-4EA2-944F-ED90A993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F411-E28D-445B-B0B7-8ABCE0A8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C2ACE-BC97-49CE-981B-67C9F1B8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49AC-586C-4ABA-A140-CADCDE4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890A-3D0B-4861-9712-1A3BD5F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9B71-BFAA-4D16-9838-0F7D66A7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CD61-D96C-448C-8FDF-59EA918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F181-04F3-44F3-9D61-69B8BCE6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5C9B-8A3C-4886-A39E-7BF218AC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6C491-86BA-4404-BE09-7529D59BB5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89C6A-FC55-41C3-8597-43DA28D28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E45F4-8DFB-450E-A32D-8D1EFCE8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37315-F0C8-4938-A3DD-4488CF9C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DC767-EEFE-4617-A39D-04708D78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874AE-ED15-40B2-988C-F82990A2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E9A46-6965-4DA4-AB9E-1B1EC218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B41FF-0DDA-44A5-BD20-1C117A6E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05B2E-1424-45E4-97A5-2A3C7D1A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2B563-D00D-4643-9682-E970C212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26765-620F-4BB6-847E-06F8943D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55DC1-8BA5-468F-AD93-9687CA04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69A75-D211-46C0-BCE9-1184DB1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BA38E-A46D-4613-8186-CD5F9B5BE5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79D83C-3762-481B-8182-DB8406447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BAA6BC-788C-4A9B-8894-B925C081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E7E112-B85E-4D94-8C32-B766C2AD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47400B-8951-4110-BBBD-CFF10C7E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FA7AB5-A986-4B97-AF96-2E79A207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01BD-283F-43DD-964C-E2EB7C59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5E58C5-495D-4DD1-9DC3-9D15EBEE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F0A859-7079-45DC-AC13-0CA30819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E902AC-16A9-4DA1-8348-85747462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D7BB21-75D3-475C-8D08-DE3E2A01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22BF2-689B-41DE-9730-58CED07C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FD0830-8434-4C2A-9D53-FB50254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8674F-4C3D-471E-8BAF-2A185D84B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B0C0A-223B-42D2-8CC3-67B335881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54FD-450C-40A0-822B-45D4F90D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DB2FA-C1DF-41BE-9A36-B56495AF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5CDC-6FF8-471F-B7D0-67496120408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B27A-745C-4EC9-BAC3-54B61F666940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DS_Logo_IN_USE"/>
          <p:cNvPicPr/>
          <p:nvPr/>
        </p:nvPicPr>
        <p:blipFill>
          <a:blip r:embed="rId2"/>
          <a:stretch/>
        </p:blipFill>
        <p:spPr>
          <a:xfrm>
            <a:off x="7988400" y="404640"/>
            <a:ext cx="59688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05C0-F755-4A3B-9026-9F6110A9199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7053-BB57-440B-863E-FC760302CB84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25F2-663C-4FA3-87E6-81432AFEA05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F17-4A03-4AFC-A693-CA95BCC30FDF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D4F-2EEA-48A9-A037-E3533EBE60C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784A-6805-4B06-AEF8-527F194AC78E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407-229E-40D9-AAB3-C6EF32D9C5A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BDD7-48BD-4FAD-A790-3DDFD563DF38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DS_Logo_IN_USE"/>
          <p:cNvPicPr/>
          <p:nvPr/>
        </p:nvPicPr>
        <p:blipFill>
          <a:blip r:embed="rId2"/>
          <a:stretch/>
        </p:blipFill>
        <p:spPr>
          <a:xfrm>
            <a:off x="8172360" y="333360"/>
            <a:ext cx="596880" cy="93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8ADC-0A8C-466F-ABB8-FD14C211F1CA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D98D-CF54-4371-890B-31057DE1CB7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AE62-C143-48BD-B4EC-2690CA7825BA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088E-1895-452F-AFF1-7A9DA67804C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6FA3-8F5D-4F98-A172-D905560CD3F7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8DF7-3DC3-422D-BA3C-3F82AA2CFC1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2982-E1CB-42AF-BC6E-949FF3BD625F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9849-6A74-4A51-906F-83ABB1D74A3A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E754-6AD3-4DA7-973B-71732F80536C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02C6-C664-4266-BBBF-E9BBD1180DA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41C5-D221-4ED9-8FB9-264B9D66B177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B41B-D38F-4D37-AA64-76F641857EE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3E5D-7E6A-499D-BB0A-5027CD6D6B47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EE9B-A62C-4F59-A5AC-C999F4B6D12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6C3A-6F7B-4245-924E-C6C02FC06BDC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7f35c9"/>
                </a:solidFill>
                <a:latin typeface="Arial"/>
              </a:rPr>
              <a:t>„</a:t>
            </a:r>
            <a:r>
              <a:rPr b="1" lang="de-AT" sz="4400" spc="-1" strike="noStrike">
                <a:solidFill>
                  <a:srgbClr val="7f35c9"/>
                </a:solidFill>
                <a:latin typeface="Arial"/>
              </a:rPr>
              <a:t>Dorfservice“ – Village Service</a:t>
            </a: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332000" y="4869000"/>
            <a:ext cx="640080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7f35c9"/>
                </a:solidFill>
                <a:latin typeface="Arial"/>
              </a:rPr>
              <a:t>Eva Altenmarkter-Fritz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7f35c9"/>
                </a:solidFill>
                <a:latin typeface="Arial"/>
              </a:rPr>
              <a:t>Ursula Fe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7f35c9"/>
                </a:solidFill>
                <a:latin typeface="Arial"/>
              </a:rPr>
              <a:t>LINC 2010 – Kirchberg, 16.3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Grafik 3" descr="_DSC5474.jpg"/>
          <p:cNvPicPr/>
          <p:nvPr/>
        </p:nvPicPr>
        <p:blipFill>
          <a:blip r:embed="rId1"/>
          <a:stretch/>
        </p:blipFill>
        <p:spPr>
          <a:xfrm>
            <a:off x="2987640" y="2349360"/>
            <a:ext cx="3125880" cy="2237040"/>
          </a:xfrm>
          <a:prstGeom prst="rect">
            <a:avLst/>
          </a:prstGeom>
          <a:ln w="0">
            <a:noFill/>
          </a:ln>
        </p:spPr>
      </p:pic>
      <p:pic>
        <p:nvPicPr>
          <p:cNvPr id="532" name="Grafik 4" descr="DS_Logo_IN_USE.jpg"/>
          <p:cNvPicPr/>
          <p:nvPr/>
        </p:nvPicPr>
        <p:blipFill>
          <a:blip r:embed="rId2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To set up a platform for social matters in the vill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9"/>
          <p:cNvSpPr/>
          <p:nvPr/>
        </p:nvSpPr>
        <p:spPr>
          <a:xfrm>
            <a:off x="4427640" y="1628640"/>
            <a:ext cx="4716360" cy="261648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Networking and relationship build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etence centres, cooperation with regional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"/>
          <p:cNvSpPr/>
          <p:nvPr/>
        </p:nvSpPr>
        <p:spPr>
          <a:xfrm>
            <a:off x="1042920" y="3789360"/>
            <a:ext cx="6048360" cy="266400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itializing, coordinating, organizing and enhanc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 ex. regular get-togethers for home care, yoga course, meeting point Dorfservice, events to cultivate a network of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1"/>
          <p:cNvSpPr/>
          <p:nvPr/>
        </p:nvSpPr>
        <p:spPr>
          <a:xfrm>
            <a:off x="1042920" y="1773360"/>
            <a:ext cx="3600360" cy="223200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To create jobs for women </a:t>
            </a:r>
            <a:br>
              <a:rPr sz="4000"/>
            </a:b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retu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5"/>
          <p:cNvSpPr/>
          <p:nvPr/>
        </p:nvSpPr>
        <p:spPr>
          <a:xfrm>
            <a:off x="1619280" y="3357720"/>
            <a:ext cx="6588000" cy="336852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000000"/>
                </a:solidFill>
                <a:latin typeface="Times New Roman"/>
              </a:rPr>
              <a:t>Instruction and further training of the staff memb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oluntary accompanying, communication, conflict resolution, arguments regarding the eld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1619280" y="1557360"/>
            <a:ext cx="3529080" cy="230328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Further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5"/>
          <p:cNvSpPr/>
          <p:nvPr/>
        </p:nvSpPr>
        <p:spPr>
          <a:xfrm>
            <a:off x="2843280" y="4653000"/>
            <a:ext cx="4680000" cy="201600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various local and regional media, through folders, homepage,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6"/>
          <p:cNvSpPr/>
          <p:nvPr/>
        </p:nvSpPr>
        <p:spPr>
          <a:xfrm>
            <a:off x="33480" y="2997360"/>
            <a:ext cx="4824360" cy="208908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Gaining funds for social matt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nancial administratio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1874880" y="1092240"/>
            <a:ext cx="3738600" cy="208764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sign, planning, implementation, documentation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284720" y="2565360"/>
            <a:ext cx="3529080" cy="223200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1160" y="2276640"/>
            <a:ext cx="2700360" cy="108108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26920" y="5229360"/>
            <a:ext cx="2087640" cy="122400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147840" y="5086440"/>
            <a:ext cx="2808360" cy="172728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973840" y="4478400"/>
            <a:ext cx="3097080" cy="165564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61280" y="2981160"/>
            <a:ext cx="2592360" cy="115272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73640" y="1301760"/>
            <a:ext cx="2592360" cy="108108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35360" y="620640"/>
            <a:ext cx="2521080" cy="144000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093680" y="981000"/>
            <a:ext cx="2614680" cy="119088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8"/>
          <p:cNvSpPr/>
          <p:nvPr/>
        </p:nvSpPr>
        <p:spPr>
          <a:xfrm>
            <a:off x="2914560" y="2709720"/>
            <a:ext cx="3097440" cy="165600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6360" y="3695760"/>
            <a:ext cx="2664000" cy="122400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840" y="3911760"/>
            <a:ext cx="252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ining funds for social matters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ncial administration and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735360" y="765000"/>
            <a:ext cx="25210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ntary staff for emergency service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 set up in groups, to be accompanied, to be coordinated and instru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0320" y="2470320"/>
            <a:ext cx="2520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ign, planning, implementation, documentation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171440" y="1163520"/>
            <a:ext cx="25210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 in exceptional circumstances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rt term help in housek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6480" y="5308560"/>
            <a:ext cx="26636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ruction and further training of staff members 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ary accompanying, communication, conflict resolution, arguments regarding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300720" y="463392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itializing, coordinating, organizing and enhancing 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. regular get-togethers for home care, yoga course, meeting point Dorfservice, events to cultivate a network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32560" y="3054240"/>
            <a:ext cx="252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ing and relationship building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etence centres, cooperation with regional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80120" y="155736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nformation platform for social and health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383080"/>
            <a:ext cx="25207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Relations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various local and regional media, through folders, homepage,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4720" y="3213000"/>
            <a:ext cx="28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18621000">
            <a:off x="5615640" y="238500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6522200">
            <a:off x="4607640" y="202464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14395200">
            <a:off x="3528000" y="209628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3085400">
            <a:off x="2798280" y="2617560"/>
            <a:ext cx="28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9037800">
            <a:off x="2598840" y="349524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558800">
            <a:off x="3203640" y="4221000"/>
            <a:ext cx="28728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463640" y="4329000"/>
            <a:ext cx="287280" cy="646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2768400">
            <a:off x="5670720" y="399636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0920" y="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Village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35c9"/>
                </a:solidFill>
                <a:latin typeface="Arial"/>
              </a:rPr>
              <a:t>Information and Facts </a:t>
            </a:r>
            <a:br>
              <a:rPr sz="4400"/>
            </a:br>
            <a:r>
              <a:rPr b="0" lang="en-US" sz="3200" spc="-1" strike="noStrike">
                <a:solidFill>
                  <a:srgbClr val="7f35c9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1231 performances in 8 member v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Of which 966 voluntary perform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1932 working hours/241,5 working days/48,3 working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Social capital gained: € 19.320,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243 clients care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13.616 km of voluntary driv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Positioning of the new social structure in the overal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Setup of a network in the village and the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To gain the users‘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Insurance issues for voluntary staff to be sol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Complete financing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Conversion from project financing to regular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Stabilization of the organization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Evaluation 2007 –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In which way does the Village Service strengthen the social capital in the Reg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0" y="1916280"/>
            <a:ext cx="914400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7f35c9"/>
                </a:solidFill>
                <a:latin typeface="Arial"/>
              </a:rPr>
              <a:t>Thank you </a:t>
            </a:r>
            <a:br>
              <a:rPr sz="4400"/>
            </a:br>
            <a:r>
              <a:rPr b="1" lang="de-AT" sz="4400" spc="-1" strike="noStrike">
                <a:solidFill>
                  <a:srgbClr val="7f35c9"/>
                </a:solidFill>
                <a:latin typeface="Arial"/>
              </a:rPr>
              <a:t>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Starting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Project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Measures /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327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8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Starting</a:t>
            </a: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Demograph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Ageing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Out-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Increase of comm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Women‘s role model ha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Family structures hav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7f35c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f35c9"/>
                </a:solidFill>
                <a:latin typeface="Arial"/>
              </a:rPr>
              <a:t>Gaps in the social 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To strengthen community based social structure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Closing gaps in the social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Mobilizing voluntary soci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Setting up a platform for social arguments in the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Building up social networks in the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Creating jobs for women retu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Projec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744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Funding 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Employment Centre, Dept. 20 and Dept. 13 of the Carinthian Regional Government, Municipalities, Ministry of Social Aff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2344680"/>
            <a:ext cx="8229600" cy="4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Supervision t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2759040"/>
            <a:ext cx="8229600" cy="98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executing organ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oard of the Association for Household, Family and Business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„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Verein für Haushalts-, Familien- und Betriebservic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3747960"/>
            <a:ext cx="3405240" cy="14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Consulting</a:t>
            </a:r>
            <a:br>
              <a:rPr sz="1200"/>
            </a:b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Financials, Controlling, Project Development, Organization Development, Special Contents, Qua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62440" y="3747960"/>
            <a:ext cx="4824360" cy="1474920"/>
          </a:xfrm>
          <a:prstGeom prst="rect">
            <a:avLst/>
          </a:prstGeom>
          <a:solidFill>
            <a:srgbClr val="db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T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1 Project Leader, 2 Project Coordin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6 Staff Members of the Dorfservice in the vill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5222880"/>
            <a:ext cx="3605040" cy="928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Municipal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rschen &amp; Dellach , Berg &amp; Greifenburg, Lendorf&amp;Baldramsdorf, Mühldorf &amp; Lurnfeld, Trebesing &amp; Malta, Rennweg &amp; K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062240" y="5222880"/>
            <a:ext cx="2062440" cy="152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dministrative District for Social Affairs and Public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24680" y="5222880"/>
            <a:ext cx="2562120" cy="152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rs of social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vill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6151680"/>
            <a:ext cx="3605040" cy="59688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oluntary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groups, 105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Services which close the gaps </a:t>
            </a:r>
            <a:br>
              <a:rPr sz="4000"/>
            </a:b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in the social 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5"/>
          <p:cNvSpPr/>
          <p:nvPr/>
        </p:nvSpPr>
        <p:spPr>
          <a:xfrm>
            <a:off x="4500720" y="1916280"/>
            <a:ext cx="3816360" cy="230328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Voluntary staff for emergency servi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o be set up in groups, to be accompanied, to be coordinated and tr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6"/>
          <p:cNvSpPr/>
          <p:nvPr/>
        </p:nvSpPr>
        <p:spPr>
          <a:xfrm>
            <a:off x="395280" y="1628640"/>
            <a:ext cx="4537080" cy="180360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Service in exceptional circumsta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hort term continuation of and help in housekeep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7"/>
          <p:cNvSpPr/>
          <p:nvPr/>
        </p:nvSpPr>
        <p:spPr>
          <a:xfrm>
            <a:off x="4572000" y="4076640"/>
            <a:ext cx="3960720" cy="201636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Information platform for social and health affai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8"/>
          <p:cNvSpPr/>
          <p:nvPr/>
        </p:nvSpPr>
        <p:spPr>
          <a:xfrm>
            <a:off x="1763640" y="3213000"/>
            <a:ext cx="3529080" cy="230364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8:44:56Z</dcterms:created>
  <dc:creator>LADion / EDV</dc:creator>
  <dc:description/>
  <dc:language>en-US</dc:language>
  <cp:lastModifiedBy>fuji</cp:lastModifiedBy>
  <dcterms:modified xsi:type="dcterms:W3CDTF">2010-03-16T11:01:07Z</dcterms:modified>
  <cp:revision>46</cp:revision>
  <dc:subject/>
  <dc:title>Dorfservice</dc:title>
</cp:coreProperties>
</file>