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dt" idx="2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ftr" idx="2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 type="sldNum" idx="2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F4E9-A870-4763-916A-AF3D0546421D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6BCE-5550-4F85-BC38-B09BC41B6C9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chichte als Vorsp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C8C0-9A71-4926-B6F9-2F0C2FBDC94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Netzwerk: „Kraft-Feld“ Vernetzung von drei sozialen Initiativen in Oberkärnten – Dorfservice, Familja, Vitami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D265-2F4A-4C54-98B4-121924B5D0A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Dorfservicemitarbeiterin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7FA8-66C0-4AD7-9260-3729D87B0AB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ördergelder: Gesamtbudget 600.000,-- (Finanziert aus EU, Bundes, Landes, Gemeindemittel und Sponso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57CF-3FC6-46C5-B15B-5AC81626EF6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DFCD-DC15-4B2D-9C1E-03DE7FC241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zwerkaufbau – Kooperation und keine Konkurr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DAA7-EFC4-4628-A8E0-27E35BA668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069E-D073-4653-9570-DFF6892A98B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89BB-75DF-4612-86C5-6267A2F0005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Talschaften von einander getrennte Talschaften Mölltal, Drautal, Lieser- Malta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Zentralraum Spittal, Lurnf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See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Zwei Leader-Regio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AB08-A8D1-4397-AFF8-5C38B090D1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ücke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bote für ältere Menschen, die noch kein Pflegefall sind feh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orthilfe in Notsituationen nicht mehr mög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ätze für Kontaktpflege für ältere Mens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nstrukture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chbarschaftshilfe schwerer organisier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EE32-E0A8-4848-BDC0-2453C1E7AB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87C2-2747-4AD0-93B5-D7915E70F89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70DE-B837-499C-9BD7-A1CCF806308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5260-D203-4570-8892-869A643B69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3065A-09FE-40E6-ACA2-7FEC5CE7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B0EA5-2E2C-4DC1-83B5-88299FD6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719FC-A455-4FCE-9D63-A5BC4FC8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A1A07-E961-4528-AB6A-116AC6AA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05790-9585-478A-8F1C-C6189FF5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615A5-EA4B-4D63-AAF5-B659D2C6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D88E3-1F45-427C-A3C7-D6B4DA0D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D1318-11E4-4D0F-9796-D07ACF04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2DFDC-F94E-45BE-8A73-4B9BCCA0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DD4B3-43F7-413F-AA4F-1F00DD4C88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5CA620-C2C1-4A76-A38D-44704A3944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D2E0-FA9B-4135-8B43-8F2E9BBC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89BFE-C156-4BA6-9F4D-42056035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D5FF74-E46C-4936-9F19-D5197DDA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CDB72-5311-451B-AF09-9F446658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3C4BE5-C041-4120-88EE-E6A0CA31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213C47-E2FB-4DF1-8F78-D8280B25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24081-9B83-426C-A178-A3D091E0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02AC0-1BA4-4D6B-BE52-B206FEEB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7B3B86-7D4C-4EC1-B341-B6311AA6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4A6023-C6F6-4669-AE8F-25AC40E4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207BD-7A0E-49FF-B2F6-4CC32676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6502-B2CD-42A2-B049-BC242E2513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D4681E-A420-4342-BD6C-A1970830C4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4D80AA-BA8D-4C7B-9E78-C46FDB1AB7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6FBE76-C9E6-4883-8327-46CAAD8A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302394-3EBB-4C6D-851C-B802FC6F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01E57F-2C4A-46D8-A937-4B0BE566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A52F81-F628-418F-B265-6CFFC1D0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A1CEC9-948C-4373-8B88-17C50CCA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159510-30B5-4FBA-992E-68FA0C22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571101-8146-4B4A-B9F9-968C1042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07D200-2210-4A76-9D8C-D154C6D7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B8DA6-BED8-4E4D-A732-AFFCDEBB5DD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43BB2D-62AA-4FBB-9B31-46BB4C77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9D0E0F-D5D7-4B8E-9BE0-09CA45C5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F235F9-8D11-4CBC-BEA8-95F91AC581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D8AE6-DDAC-43C2-BB89-2D3E5AA885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65711-E212-4958-BFDF-72E30897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5B5A1-CBA4-49F0-BE8A-D3DE92B4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54700-531C-46D5-8C7B-804BAF26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CC4BE-B56A-417E-9F24-DA40288F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19EB0-6807-4D6C-9060-45E058AF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F42C2-0A6E-42E1-996F-22FACF2F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15B84-7D0D-496F-85C2-FA4297D8C92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19DCE-B5AC-4644-8C39-3A7E352A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0AC72-1F86-420A-BE80-A584CDA0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196CD-6A82-41D3-939A-CBDF2C77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8418D-E81C-4DCC-811D-038E39E4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7BC0D-E11E-43F2-87F5-7B741F3E86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26B5BA-C6CB-4D11-B0E9-85E56D000D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5CE439-A62E-403E-A66E-7FF1D8C6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AD9A5E-A753-4929-BF01-5837FEEF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9C9C3E-0B23-4810-8724-D2222383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814195-9A6E-4742-9C5B-83E144AD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1F525-1B5B-4F0F-B543-86FBE6B2F4D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D82F0F-48C0-4AC3-9AEE-A38B34A2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7281F3-FB53-447F-9917-96773E3C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88DFC5-7047-4297-85D2-09473AEE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05D3A9-033E-47BC-9339-5395618D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E62F75-DB26-425E-9083-1994626B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562C60-05F0-496A-9210-4281E5E6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E31461-C033-4F42-887C-9810B79751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07229-54A0-4BF9-94E0-17FF2F392F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C9F04-47F8-4E39-8DFB-3EEE7C2812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28634-9356-46DD-9E65-35C45A7A43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84E1A-A34E-449C-9C03-1BD284432C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AB8B-B789-47A5-9C03-D05C5EF2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9311E-FC13-4236-A408-54D6661BA0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A8D9F-2421-4B05-A7FB-A73166AB8B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B2BDF-315C-40D9-90D1-51E6869FC2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F947A-BFAE-40A3-A1C6-B21452EF73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F871E-675B-4A67-BB89-C2D873DA68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79C5-DC1B-466F-83C1-3918B783BD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000B-FD67-4829-9CBF-418A2D66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1DCB-7757-4997-A52F-1B9F9AA3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8DC5-FF2C-4E67-BE39-234FA63D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B597-D00E-41FD-A3B9-EB960B77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30E23-706A-4B61-9B83-5A322B83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7A61-B0FC-4726-BD38-B546285C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0947-F4FD-437D-8D69-3461758A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88E9-A4EB-4712-9C06-76805CC5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22A7-305B-4565-95B3-2FDFDA37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A468-9425-4F54-9288-4B4F0F88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9BFD-CA14-4D8C-BB9C-D2299FA4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DACC-051B-4CA7-9056-DF09235287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C7811-2451-4DF9-907B-AB5D62651F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5EC73-AE1F-47A9-ACD4-5FF34612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44359-188A-44D6-89D6-4587D8B3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0240C-345A-4207-8E51-FA7F44E2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D86E3-267C-4A16-A56D-ABA53B50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DFAD6-426C-47DA-9197-B7931EAF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13AA4-B123-45A6-BB5B-09EF90FA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66A55-8B2E-4F29-8CC4-5FA9F901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7EC59-1A99-4767-83F1-EC3F5CA8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31DF0-7BCF-4479-8742-A45B217B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73BF7-6C70-4A9A-BA4E-8B9D829D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217CE-E329-4800-B34C-64BD03FF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2C48F-E86D-489E-A1B4-060E7D5C43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8EE4D5-7B1D-4C7A-BF32-1C7AD20979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5A661-68B8-44B4-92BB-9BC5C625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AAA894-E5F3-45ED-BECC-9E451AA9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8F4CD9-FCD2-4A62-BBF8-61D87248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E932B3-07F7-4226-BF8E-60700B6D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E0E2B-4197-4D3C-B1B1-82CB5CFB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0EA0F-6018-4210-9BC7-C5A106BA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6B875E-FD57-46A1-8C36-E4984379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24B6D6-5737-4760-9051-5080B75F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2CABF9-0AA9-46E2-B65D-C393D512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A56D75-CC03-43A1-B191-22C2C8E2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6D05B1-9412-4C85-92F5-9FCF91A6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EC8C2-AAAC-46AB-BBFD-4E28C73B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E89E3D-498D-4D61-8105-5CE1A380D2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08545-8BA7-452E-984D-448172FBDC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849CC-BA05-49F5-8CEB-1698B204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2E3B9-6027-4D75-AB09-A522480E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6D563-3D2D-4E64-BF35-8ED2873A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66F8D-E859-4DDC-8DEF-34025FFE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9EBCC-F7D7-4BFE-B053-95BB4F98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801B9-D31B-4D0D-A40D-899C743C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0820E-05A0-4C89-AE7A-3ED9A8D9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60553-B003-4A8D-A5E6-C2C5F75A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2DE6-1895-4EF8-ADBA-F4A1B557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4C641-42EC-4475-9E6B-8299831F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C24EB-31D0-496E-BCA2-511A7437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54F56-608B-41F0-B871-F96F632144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3630B-A15A-431E-9109-4A7088A306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3F23D-F5DC-4A81-B204-2623C160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634BE-0DCB-4BB9-8D18-BD96D593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280D3-3F8B-4A6B-827C-07316112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546A9-576E-4D10-A66C-368B5925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A367AE-EBCB-4B7E-BF1E-6AD7D276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1A0EDA-BF32-405E-89DF-DA884816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ABBB-FC27-444D-8DA8-2BF33813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570CC-5A1A-4428-A124-7F21DB73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651F0C-21D7-45E9-91FC-0C3E5E60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922F7-CA1E-4661-B7A2-8A56931D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5B8A7-EF3D-4F0E-A664-3139E0DC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5E60B-5131-4FB6-A66D-7242E5B7D2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5187CF-EBE8-4A0F-A378-E8E5BF5DBD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5CFB47-3CE0-40E0-AC9F-0783B888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78CADA-2C11-48FA-B8C7-BAC35FD9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448E2E-3027-4B7F-9D80-B2E699D0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740DAC-A951-499A-B183-02FFE253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615D-4EB2-4E11-873B-D311AE7C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8FD40D-1E8B-489B-A54F-C11F76C6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B772E9-17DC-4579-B4A8-2B1FCCC1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CA4132-946D-49EB-ACE4-33BCCAFD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2815D9-A6E7-4386-B5C4-6900AC45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CCE296-3B17-4685-8D81-3607B039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E0B59E-4614-48E8-B853-D21923BE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64A96F-4B8E-405D-B2CB-37BF844037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04744-6B17-408C-94AC-ADD83F0177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8A188-A966-418B-84CB-3906C94F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89570-634A-4D38-8DEF-5321E84F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4669-F660-44B7-8E47-0DEA139F9F17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DDFD-6418-49B1-9660-D819BFA1C636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DS_Logo_IN_USE"/>
          <p:cNvPicPr/>
          <p:nvPr/>
        </p:nvPicPr>
        <p:blipFill>
          <a:blip r:embed="rId2"/>
          <a:stretch/>
        </p:blipFill>
        <p:spPr>
          <a:xfrm>
            <a:off x="7988400" y="404640"/>
            <a:ext cx="596880" cy="9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AE3D-6730-4DB9-887A-6FD46F7C9373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A415-BE70-47D4-AFAA-7ECC673A4658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7687-BD8D-4012-BA09-15668A200F03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A479-51E9-4C5C-A4BF-511960BF3141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AD6D-ECAF-42B6-B010-2803C87D7E0B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09F5-0D27-4EC4-A1BD-1801D1B229CB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FC7C-C626-4554-A141-E6D7F034D17A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DC3A-F0D7-4C25-B28F-58A6C6C7C039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DS_Logo_IN_USE"/>
          <p:cNvPicPr/>
          <p:nvPr/>
        </p:nvPicPr>
        <p:blipFill>
          <a:blip r:embed="rId2"/>
          <a:stretch/>
        </p:blipFill>
        <p:spPr>
          <a:xfrm>
            <a:off x="8172360" y="333360"/>
            <a:ext cx="596880" cy="938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EBEE-76C7-4C6B-B01F-44DCF2BBC0D1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8D44-F7F0-48C2-80D1-5C4B1E4C7895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44E2-FF37-439C-89AE-38C67488B181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071F-47CD-482B-9B03-698623F4C3B1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8C75-21A6-4938-9C2E-7B06762DFC31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7B70-7081-4628-B222-9FA70C2B4304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CA85-E2BE-44E0-A2CC-7B7C0772F7AE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3F89-7AF0-410A-A965-D460A85535DC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E1F1-0A30-4525-8918-FEDE9D1D9C86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F661-28E3-4FEF-9973-5DE8F88B0F8C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80D1-0D8D-42EE-8187-32D98D28827F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DF4E-5D86-4D96-97E7-2D8041966022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CD69-17BA-44D6-8DE5-94F0F286B3CC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35C6-16EA-4AAB-BB4F-04D8314831C0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8B6C-D699-4D03-9252-66D624D2BFD0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7f35c9"/>
                </a:solidFill>
                <a:latin typeface="Arial"/>
              </a:rPr>
              <a:t>„</a:t>
            </a:r>
            <a:r>
              <a:rPr b="1" lang="de-AT" sz="4400" spc="-1" strike="noStrike">
                <a:solidFill>
                  <a:srgbClr val="7f35c9"/>
                </a:solidFill>
                <a:latin typeface="Arial"/>
              </a:rPr>
              <a:t>Dorfservice“ – Village Service</a:t>
            </a:r>
            <a:r>
              <a:rPr b="0" lang="de-AT" sz="4400" spc="-1" strike="noStrike">
                <a:solidFill>
                  <a:srgbClr val="7f35c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332000" y="4869000"/>
            <a:ext cx="6400800" cy="15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7f35c9"/>
                </a:solidFill>
                <a:latin typeface="Arial"/>
              </a:rPr>
              <a:t>Eva Altenmarkter-Fritz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7f35c9"/>
                </a:solidFill>
                <a:latin typeface="Arial"/>
              </a:rPr>
              <a:t>Ursula Fe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7f35c9"/>
                </a:solidFill>
                <a:latin typeface="Arial"/>
              </a:rPr>
              <a:t>LINC 2010 – Kirchberg, 16.3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Grafik 3" descr="_DSC5474.jpg"/>
          <p:cNvPicPr/>
          <p:nvPr/>
        </p:nvPicPr>
        <p:blipFill>
          <a:blip r:embed="rId1"/>
          <a:stretch/>
        </p:blipFill>
        <p:spPr>
          <a:xfrm>
            <a:off x="2987640" y="2349360"/>
            <a:ext cx="3125880" cy="2237040"/>
          </a:xfrm>
          <a:prstGeom prst="rect">
            <a:avLst/>
          </a:prstGeom>
          <a:ln w="0">
            <a:noFill/>
          </a:ln>
        </p:spPr>
      </p:pic>
      <p:pic>
        <p:nvPicPr>
          <p:cNvPr id="532" name="Grafik 4" descr="DS_Logo_IN_USE.jpg"/>
          <p:cNvPicPr/>
          <p:nvPr/>
        </p:nvPicPr>
        <p:blipFill>
          <a:blip r:embed="rId2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f35c9"/>
                </a:solidFill>
                <a:latin typeface="Arial"/>
              </a:rPr>
              <a:t>To set up a platform for social matters in the vill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9"/>
          <p:cNvSpPr/>
          <p:nvPr/>
        </p:nvSpPr>
        <p:spPr>
          <a:xfrm>
            <a:off x="4427640" y="1628640"/>
            <a:ext cx="4716360" cy="261648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Networking and relationship build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etence centres, cooperation with regional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0"/>
          <p:cNvSpPr/>
          <p:nvPr/>
        </p:nvSpPr>
        <p:spPr>
          <a:xfrm>
            <a:off x="1042920" y="3789360"/>
            <a:ext cx="6048360" cy="266400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itializing, coordinating, organizing and enhanc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 ex. regular get-togethers for home care, yoga course, meeting point Dorfservice, events to cultivate a network of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1"/>
          <p:cNvSpPr/>
          <p:nvPr/>
        </p:nvSpPr>
        <p:spPr>
          <a:xfrm>
            <a:off x="1042920" y="1773360"/>
            <a:ext cx="3600360" cy="2232000"/>
          </a:xfrm>
          <a:prstGeom prst="ellipse">
            <a:avLst/>
          </a:prstGeom>
          <a:solidFill>
            <a:srgbClr val="7f35c9"/>
          </a:solidFill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o strengthen community based social structures throug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f35c9"/>
                </a:solidFill>
                <a:latin typeface="Arial"/>
              </a:rPr>
              <a:t>To create jobs for women </a:t>
            </a:r>
            <a:br>
              <a:rPr sz="4000"/>
            </a:br>
            <a:r>
              <a:rPr b="0" lang="en-GB" sz="4000" spc="-1" strike="noStrike">
                <a:solidFill>
                  <a:srgbClr val="7f35c9"/>
                </a:solidFill>
                <a:latin typeface="Arial"/>
              </a:rPr>
              <a:t>retu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5"/>
          <p:cNvSpPr/>
          <p:nvPr/>
        </p:nvSpPr>
        <p:spPr>
          <a:xfrm>
            <a:off x="1619280" y="3357720"/>
            <a:ext cx="6588000" cy="336852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000000"/>
                </a:solidFill>
                <a:latin typeface="Times New Roman"/>
              </a:rPr>
              <a:t>Instruction and further training of the staff memb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oluntary accompanying, communication, conflict resolution, arguments regarding the eld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8"/>
          <p:cNvSpPr/>
          <p:nvPr/>
        </p:nvSpPr>
        <p:spPr>
          <a:xfrm>
            <a:off x="1619280" y="1557360"/>
            <a:ext cx="3529080" cy="2303280"/>
          </a:xfrm>
          <a:prstGeom prst="ellipse">
            <a:avLst/>
          </a:prstGeom>
          <a:solidFill>
            <a:srgbClr val="7f35c9"/>
          </a:solidFill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o strengthen community based social structures throug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f35c9"/>
                </a:solidFill>
                <a:latin typeface="Arial"/>
              </a:rPr>
              <a:t>Further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5"/>
          <p:cNvSpPr/>
          <p:nvPr/>
        </p:nvSpPr>
        <p:spPr>
          <a:xfrm>
            <a:off x="2843280" y="4653000"/>
            <a:ext cx="4680000" cy="201600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Public Rela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various local and regional media, through folders, homepage,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6"/>
          <p:cNvSpPr/>
          <p:nvPr/>
        </p:nvSpPr>
        <p:spPr>
          <a:xfrm>
            <a:off x="33480" y="2997360"/>
            <a:ext cx="4824360" cy="208908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Gaining funds for social matt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inancial administration and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7"/>
          <p:cNvSpPr/>
          <p:nvPr/>
        </p:nvSpPr>
        <p:spPr>
          <a:xfrm>
            <a:off x="1874880" y="1092240"/>
            <a:ext cx="3738600" cy="208764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sign, planning, implementation, documentation and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4284720" y="2565360"/>
            <a:ext cx="3529080" cy="2232000"/>
          </a:xfrm>
          <a:prstGeom prst="ellipse">
            <a:avLst/>
          </a:prstGeom>
          <a:solidFill>
            <a:srgbClr val="7f35c9"/>
          </a:solidFill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o strengthen community based social structures throug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1160" y="2276640"/>
            <a:ext cx="2700360" cy="108108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26920" y="5229360"/>
            <a:ext cx="2087640" cy="122400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147840" y="5086440"/>
            <a:ext cx="2808360" cy="172728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973840" y="4478400"/>
            <a:ext cx="3097080" cy="165564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61280" y="2981160"/>
            <a:ext cx="2592360" cy="115272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173640" y="1301760"/>
            <a:ext cx="2592360" cy="108108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735360" y="620640"/>
            <a:ext cx="2521080" cy="144000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093680" y="981000"/>
            <a:ext cx="2614680" cy="119088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8"/>
          <p:cNvSpPr/>
          <p:nvPr/>
        </p:nvSpPr>
        <p:spPr>
          <a:xfrm>
            <a:off x="2914560" y="2709720"/>
            <a:ext cx="3097440" cy="1656000"/>
          </a:xfrm>
          <a:prstGeom prst="ellipse">
            <a:avLst/>
          </a:prstGeom>
          <a:solidFill>
            <a:srgbClr val="7f35c9"/>
          </a:solidFill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To strengthen community based social structures throug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6360" y="3695760"/>
            <a:ext cx="2664000" cy="122400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840" y="3911760"/>
            <a:ext cx="2521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ining funds for social matters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ncial administration and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735360" y="765000"/>
            <a:ext cx="252108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luntary staff for emergency service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be set up in groups, to be accompanied, to be coordinated and instru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30320" y="2470320"/>
            <a:ext cx="2520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ign, planning, implementation, documentation and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171440" y="1163520"/>
            <a:ext cx="25210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ce in exceptional circumstances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rt term help in housek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46480" y="5308560"/>
            <a:ext cx="266364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ruction and further training of staff members 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untary accompanying, communication, conflict resolution, arguments regarding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300720" y="4633920"/>
            <a:ext cx="252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itializing, coordinating, organizing and enhancing 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. regular get-togethers for home care, yoga course, meeting point Dorfservice, events to cultivate a network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32560" y="3054240"/>
            <a:ext cx="2521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working and relationship building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etence centres, cooperation with regional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80120" y="1557360"/>
            <a:ext cx="25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nformation platform for social and health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383080"/>
            <a:ext cx="252072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Relations</a:t>
            </a:r>
            <a:br>
              <a:rPr sz="16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various local and regional media, through folders, homepage,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084720" y="3213000"/>
            <a:ext cx="28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rot="18621000">
            <a:off x="5615640" y="2385000"/>
            <a:ext cx="287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16522200">
            <a:off x="4607640" y="2024640"/>
            <a:ext cx="287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14395200">
            <a:off x="3528000" y="2096280"/>
            <a:ext cx="287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rot="13085400">
            <a:off x="2798280" y="2617560"/>
            <a:ext cx="28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9037800">
            <a:off x="2598840" y="3495240"/>
            <a:ext cx="287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7558800">
            <a:off x="3203640" y="4221000"/>
            <a:ext cx="287280" cy="57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463640" y="4329000"/>
            <a:ext cx="287280" cy="646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2768400">
            <a:off x="5670720" y="3996360"/>
            <a:ext cx="287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094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0920" y="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7f35c9"/>
                </a:solidFill>
                <a:latin typeface="Arial"/>
              </a:rPr>
              <a:t>Village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35c9"/>
                </a:solidFill>
                <a:latin typeface="Arial"/>
              </a:rPr>
              <a:t>Information and Facts </a:t>
            </a:r>
            <a:br>
              <a:rPr sz="4400"/>
            </a:br>
            <a:r>
              <a:rPr b="0" lang="en-US" sz="3200" spc="-1" strike="noStrike">
                <a:solidFill>
                  <a:srgbClr val="7f35c9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1231 performances in 8 member vill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Of which 966 voluntary perform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1932 working hours/241,5 working days/48,3 working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Social capital gained: € 19.320,-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243 clients cared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13.616 km of voluntary driv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f35c9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Positioning of the new social structure in the overal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Setup of a network in the village and the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To gain the users‘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Insurance issues for voluntary staff to be solv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Complete financing of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Conversion from project financing to regular fin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f35c9"/>
                </a:solidFill>
                <a:latin typeface="Arial"/>
              </a:rPr>
              <a:t>Out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Stabilization of the organization develop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Evaluation 2007 –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In which way does the Village Service strengthen the social capital in the Reg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2"/>
          <p:cNvSpPr/>
          <p:nvPr/>
        </p:nvSpPr>
        <p:spPr>
          <a:xfrm>
            <a:off x="0" y="1916280"/>
            <a:ext cx="9144000" cy="18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7f35c9"/>
                </a:solidFill>
                <a:latin typeface="Arial"/>
              </a:rPr>
              <a:t>Thank you </a:t>
            </a:r>
            <a:br>
              <a:rPr sz="4400"/>
            </a:br>
            <a:r>
              <a:rPr b="1" lang="de-AT" sz="4400" spc="-1" strike="noStrike">
                <a:solidFill>
                  <a:srgbClr val="7f35c9"/>
                </a:solidFill>
                <a:latin typeface="Arial"/>
              </a:rPr>
              <a:t>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7f35c9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7f35c9"/>
                </a:solidFill>
                <a:latin typeface="Arial"/>
              </a:rPr>
              <a:t>Starting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7f35c9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7f35c9"/>
                </a:solidFill>
                <a:latin typeface="Arial"/>
              </a:rPr>
              <a:t>Project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7f35c9"/>
                </a:solidFill>
                <a:latin typeface="Arial"/>
              </a:rPr>
              <a:t>Measures /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7f35c9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7f35c9"/>
                </a:solidFill>
                <a:latin typeface="Arial"/>
              </a:rPr>
              <a:t>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7f35c9"/>
                </a:solidFill>
                <a:latin typeface="Arial"/>
              </a:rPr>
              <a:t>Starting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7f35c9"/>
                </a:solidFill>
                <a:latin typeface="Arial"/>
              </a:rPr>
              <a:t>Starting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5327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7f35c9"/>
                </a:solidFill>
                <a:latin typeface="Arial"/>
              </a:rPr>
              <a:t>Starting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8850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f35c9"/>
                </a:solidFill>
                <a:latin typeface="Arial"/>
              </a:rPr>
              <a:t>Starting</a:t>
            </a:r>
            <a:r>
              <a:rPr b="0" lang="de-AT" sz="4400" spc="-1" strike="noStrike">
                <a:solidFill>
                  <a:srgbClr val="7f35c9"/>
                </a:solidFill>
                <a:latin typeface="Arial"/>
              </a:rPr>
              <a:t>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Demographic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Ageing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Out-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Increase of comm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Women‘s role model has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Family structures hav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buClr>
                <a:srgbClr val="7f35c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f35c9"/>
                </a:solidFill>
                <a:latin typeface="Arial"/>
              </a:rPr>
              <a:t>Gaps in the social 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f35c9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35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35c9"/>
                </a:solidFill>
                <a:latin typeface="Arial"/>
              </a:rPr>
              <a:t>To strengthen community based social structures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Closing gaps in the social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Mobilizing voluntary socia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Setting up a platform for social arguments in the vill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Building up social networks in the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f35c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35c9"/>
                </a:solidFill>
                <a:latin typeface="Arial"/>
              </a:rPr>
              <a:t>Creating jobs for women retu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7f35c9"/>
                </a:solidFill>
                <a:latin typeface="Arial"/>
              </a:rPr>
              <a:t>Projec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1600200"/>
            <a:ext cx="8229600" cy="744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  <a:ea typeface="Times New Roman"/>
              </a:rPr>
              <a:t>Funding bod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Employment Centre, Dept. 20 and Dept. 13 of the Carinthian Regional Government, Municipalities, Ministry of Social Aff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2344680"/>
            <a:ext cx="8229600" cy="414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  <a:ea typeface="Times New Roman"/>
              </a:rPr>
              <a:t>Supervision te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2759040"/>
            <a:ext cx="8229600" cy="988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 executing organ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oard of the Association for Household, Family and Business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„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Verein für Haushalts-, Familien- und Betriebservice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" y="3747960"/>
            <a:ext cx="3405240" cy="14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  <a:ea typeface="Times New Roman"/>
              </a:rPr>
              <a:t>External Consulting</a:t>
            </a:r>
            <a:br>
              <a:rPr sz="1200"/>
            </a:b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Financials, Controlling, Project Development, Organization Development, Special Contents, Qua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62440" y="3747960"/>
            <a:ext cx="4824360" cy="1474920"/>
          </a:xfrm>
          <a:prstGeom prst="rect">
            <a:avLst/>
          </a:prstGeom>
          <a:solidFill>
            <a:srgbClr val="dbb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 Te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1 Project Leader, 2 Project Coordin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6 Staff Members of the Dorfservice in the vill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5222880"/>
            <a:ext cx="3605040" cy="928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Municipal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Irschen &amp; Dellach , Berg &amp; Greifenburg, Lendorf&amp;Baldramsdorf, Mühldorf &amp; Lurnfeld, Trebesing &amp; Malta, Rennweg &amp; K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062240" y="5222880"/>
            <a:ext cx="2062440" cy="1525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dministrative District for Social Affairs and Public 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124680" y="5222880"/>
            <a:ext cx="2562120" cy="1525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rs of social 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vill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6151680"/>
            <a:ext cx="3605040" cy="59688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Voluntary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groups, 105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f35c9"/>
                </a:solidFill>
                <a:latin typeface="Arial"/>
              </a:rPr>
              <a:t>Services which close the gaps </a:t>
            </a:r>
            <a:br>
              <a:rPr sz="4000"/>
            </a:br>
            <a:r>
              <a:rPr b="0" lang="en-GB" sz="4000" spc="-1" strike="noStrike">
                <a:solidFill>
                  <a:srgbClr val="7f35c9"/>
                </a:solidFill>
                <a:latin typeface="Arial"/>
              </a:rPr>
              <a:t>in the social 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5"/>
          <p:cNvSpPr/>
          <p:nvPr/>
        </p:nvSpPr>
        <p:spPr>
          <a:xfrm>
            <a:off x="4500720" y="1916280"/>
            <a:ext cx="3816360" cy="230328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Voluntary staff for emergency servic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o be set up in groups, to be accompanied, to be coordinated and tr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6"/>
          <p:cNvSpPr/>
          <p:nvPr/>
        </p:nvSpPr>
        <p:spPr>
          <a:xfrm>
            <a:off x="395280" y="1628640"/>
            <a:ext cx="4537080" cy="180360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Service in exceptional circumstan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hort term continuation of and help in housekeep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7"/>
          <p:cNvSpPr/>
          <p:nvPr/>
        </p:nvSpPr>
        <p:spPr>
          <a:xfrm>
            <a:off x="4572000" y="4076640"/>
            <a:ext cx="3960720" cy="2016360"/>
          </a:xfrm>
          <a:prstGeom prst="ellipse">
            <a:avLst/>
          </a:prstGeom>
          <a:noFill/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Information platform for social and health affai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8"/>
          <p:cNvSpPr/>
          <p:nvPr/>
        </p:nvSpPr>
        <p:spPr>
          <a:xfrm>
            <a:off x="1763640" y="3213000"/>
            <a:ext cx="3529080" cy="2303640"/>
          </a:xfrm>
          <a:prstGeom prst="ellipse">
            <a:avLst/>
          </a:prstGeom>
          <a:solidFill>
            <a:srgbClr val="7f35c9"/>
          </a:solidFill>
          <a:ln w="28440">
            <a:solidFill>
              <a:srgbClr val="fd8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o strengthen community based social structures throug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Grafik 4" descr="DS_Logo_IN_USE.jpg"/>
          <p:cNvPicPr/>
          <p:nvPr/>
        </p:nvPicPr>
        <p:blipFill>
          <a:blip r:embed="rId1"/>
          <a:stretch/>
        </p:blipFill>
        <p:spPr>
          <a:xfrm>
            <a:off x="8244000" y="189000"/>
            <a:ext cx="5968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8:44:56Z</dcterms:created>
  <dc:creator>LADion / EDV</dc:creator>
  <dc:description/>
  <dc:language>en-US</dc:language>
  <cp:lastModifiedBy>fuji</cp:lastModifiedBy>
  <dcterms:modified xsi:type="dcterms:W3CDTF">2010-03-16T11:01:07Z</dcterms:modified>
  <cp:revision>46</cp:revision>
  <dc:subject/>
  <dc:title>Dorfservice</dc:title>
</cp:coreProperties>
</file>