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7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7D6-1425-480F-A801-067A5C33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DCF-C6EE-4D8D-BE9A-0BBC00B6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12F-A8AF-4B65-A8CE-BDD0F7EB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6CD-205C-462D-8A17-D0B04876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95A-87EE-4A74-BE8B-47D7FAFA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49F-BD4D-40B4-A73B-2EE887A6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B1B-1CFF-4D2A-B500-41B1F6FE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0D8-8429-43B3-BD49-E3507933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149-4FD7-4490-9466-8D09220E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EBF-7D51-46B3-8107-4F81F2E7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7DB-10B9-4F21-B455-44AAEB95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8C8-D8FB-47E6-8BB5-2CDC1679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3662-AB1A-448D-95B6-86EC1FAC29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3.bp.blogspot.com/_qQPkA8lqUc4/SStklf-c9UI/AAAAAAAAAdA/UJACpwrLHO0/s400/happy%252520and%252520excited.jpg&amp;imgrefurl=http://weavingafamily.blogspot.com/&amp;usg=__H-2gceDIFbdI-lv8jU6jE-cbBBw=&amp;h=312&amp;w=350&amp;sz=26&amp;hl=de&amp;start=43&amp;itbs=1&amp;tbnid=uSl4gXpUUKHqXM:&amp;tbnh=107&amp;tbnw=120&amp;prev=/images%3Fq%3Dexcited%26start%3D40%26hl%3Dde%26sa%3DN%26gbv%3D2%26ndsp%3D20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www.gotcheapbinoculars.com/wp-content/uploads/got_cheap_binoculars_home.jpg&amp;imgrefurl=http://www.gotcheapbinoculars.com/&amp;usg=__wvUrwzAvr7VFb6vEgphyBiQ81P8=&amp;h=460&amp;w=315&amp;sz=120&amp;hl=de&amp;start=7&amp;itbs=1&amp;tbnid=cAzOKBH-uMEWGM:&amp;tbnh=128&amp;tbnw=88&amp;prev=/images%3Fq%3Dbinocular%26hl%3Dde%26gbv%3D2%26tbs%3Disch: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at/imgres?imgurl=http://revelsports.com/Gifts/runningmanspin.gif&amp;imgrefurl=http://revelsports.com/Gifts/C321.htm&amp;usg=__ZME1kJEmr68P41bimKbZJh-vGq4=&amp;h=378&amp;w=378&amp;sz=68&amp;hl=de&amp;start=6&amp;itbs=1&amp;tbnid=tw5ym5I-UkAE6M:&amp;tbnh=122&amp;tbnw=122&amp;prev=/images%3Fq%3Drunning%2Bman%26hl%3Dde%26sa%3DG%26gbv%3D2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freeiconsweb.com/Tweet-My-Web-7-icons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at/imgres?imgurl=http://www.feuerwehr-reischach.it/images/ratgeber/sternspritzer.jpg&amp;imgrefurl=http://www.feuerwehr-reischach.it/feuerwehr-reischach-ratgeber-d.php%3Fsub%3D5%26id%3D2&amp;usg=__72OZWrSlITRnknvAQeeXoDU3SLQ=&amp;h=161&amp;w=192&amp;sz=10&amp;hl=de&amp;start=4&amp;itbs=1&amp;tbnid=BB8ftl74Hm1aPM:&amp;tbnh=86&amp;tbnw=103&amp;prev=/images%3Fq%3Dsternspritzer%26hl%3Dde%26gbv%3D2%26tbs%3Disch:1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www.upps.at/shop/images/product_images/info_images/610_0.jpg&amp;imgrefurl=http://www.upps.at/shop/product_info.php%3Finfo%3Dp610_Andere-Gefahren----50-16.html%26XTCsid%3Dc18fa8da0f2ad58b855e146563085bd1&amp;usg=___bTy3-8Qub7GABIL13odfynpFhA=&amp;h=160&amp;w=185&amp;sz=20&amp;hl=de&amp;start=2&amp;itbs=1&amp;tbnid=a4P0RBhjP1K59M:&amp;tbnh=88&amp;tbnw=102&amp;prev=/images%3Fq%3Dverkehrszeichen%2Bachtung%26hl%3Dde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at/imgres?imgurl=http://open-site.org/img/bytee/halley_2.jpg&amp;imgrefurl=http://open-site.org/International/Deutsch/Wissenschaft/Astronomie/Sonnensystem/Kometen/Komet_Halley&amp;usg=__Ykn90ke3M8fMFXqFTjlv7RmqBsI=&amp;h=348&amp;w=529&amp;sz=46&amp;hl=de&amp;start=5&amp;itbs=1&amp;tbnid=4soS1vmhF1Qf6M:&amp;tbnh=87&amp;tbnw=132&amp;prev=/images%3Fq%3Dkomet%26hl%3Dde%26gbv%3D2%26tbs%3Disch: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at/imgres?imgurl=http://comps.fotosearch.com/comp/UNN/UNN865/heiss-luft-balloon-schauen_~u15956178.jpg&amp;imgrefurl=http://www.fotosearch.de/UNN865/u15956178/&amp;usg=__1l-rYAseon8seNZoYc_lSy8n4og=&amp;h=320&amp;w=225&amp;sz=27&amp;hl=de&amp;start=37&amp;itbs=1&amp;tbnid=wHVGnpgxrV6yhM:&amp;tbnh=118&amp;tbnw=83&amp;prev=/images%3Fq%3Din%2Bdie%2Bluft%2Bgucken%26start%3D20%26hl%3Dde%26sa%3DN%26gbv%3D2%26ndsp%3D20%26tbs%3Disch: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at/imgres?imgurl=http://studentweb.cencol.ca/wtsang15/images/money.gif&amp;imgrefurl=http://studentweb.cencol.ca/wtsang15/&amp;usg=__pd8o3pNYdrg4JL8LCO5m9QcQY18=&amp;h=365&amp;w=327&amp;sz=6&amp;hl=de&amp;start=17&amp;itbs=1&amp;tbnid=rX_VzMlaZxnX8M:&amp;tbnh=121&amp;tbnw=108&amp;prev=/images%3Fq%3Dmoney%26hl%3Dde%26gbv%3D2%26tbs%3Disch:1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farm3.static.flickr.com/2151/2038303667_166e5c75d6.jpg&amp;imgrefurl=http://www.flickr.com/photos/rizzato/2038303667/&amp;usg=__Xts_eT55_72pkvp7KQxjUJT1s5Q=&amp;h=500&amp;w=498&amp;sz=185&amp;hl=de&amp;start=10&amp;itbs=1&amp;tbnid=gL6pci1ztIqxNM:&amp;tbnh=130&amp;tbnw=129&amp;prev=/images%3Fq%3Dfree%2Bclimbing%26hl%3Dde%26gbv%3D2%26tbs%3Disch: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images.google.at/imgres?imgurl=http://dobbse.net/thinair/2004/05/finger-pointing.gif&amp;imgrefurl=http://dobbse.net/thinair/2004/07/finger-pointing.html&amp;usg=__1qbXIGeGf8cC8Q5TEdU_Su8JR80=&amp;h=144&amp;w=235&amp;sz=7&amp;hl=de&amp;start=10&amp;itbs=1&amp;tbnid=YnF1apEJIeum-M:&amp;tbnh=67&amp;tbnw=109&amp;prev=/images%3Fq%3Dfingers%2Bpointing%26hl%3Dde%26gbv%3D2%26tbs%3Disch:1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images.google.at/imgres?imgurl=http://www.greaterthings.com/Humor/Images/monkey_smile.jpg&amp;imgrefurl=http://www.greaterthings.com/Humor/smile.htm&amp;usg=__ssl9VT9DNVgaNbPZMihgHAYClzI=&amp;h=631&amp;w=456&amp;sz=18&amp;hl=de&amp;start=15&amp;itbs=1&amp;tbnid=HUVeBkZTAVIFQM:&amp;tbnh=137&amp;tbnw=99&amp;prev=/images%3Fq%3Dsmile%26hl%3Dde%26gbv%3D2%26tbs%3Disch:1" TargetMode="External"/><Relationship Id="rId7" Type="http://schemas.openxmlformats.org/officeDocument/2006/relationships/image" Target="../media/image13.jpeg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www.hist.uzh.ch/lehre/neuzeit/moos/lehre/Laempel_Album_3.jpg&amp;imgrefurl=http://www.hist.uzh.ch/lehre/neuzeit/moos/lehre.html&amp;usg=__P40MgtL87spl-cPx-hRyUcQipT4=&amp;h=642&amp;w=542&amp;sz=127&amp;hl=de&amp;start=2&amp;itbs=1&amp;tbnid=KEp5_WYep1OR-M:&amp;tbnh=137&amp;tbnw=116&amp;prev=/images%3Fq%3Dl%25C3%25A4mpel%26hl%3Dde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at/imgres?imgurl=http://www.stakeholdermapping.com/Images/Feedback.jpg&amp;imgrefurl=http://www.stakeholdermapping.com/&amp;usg=__9xnHckmSI2Ec6XMIdqpQLKI76ho=&amp;h=350&amp;w=350&amp;sz=15&amp;hl=de&amp;start=9&amp;itbs=1&amp;tbnid=AxdNqoDRZqepyM:&amp;tbnh=120&amp;tbnw=120&amp;prev=/images%3Fq%3Dfeedback%26hl%3Dde%26gbv%3D2%26tbs%3Disch: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at/imgres?imgurl=http://www.buergersolar-lichtenstein.de/bilder/Versammlung.jpg&amp;imgrefurl=http://www.buergersolar-lichtenstein.de/aktuelles.php%3Fsd%3D0-01-01&amp;usg=__s_FduKxmwQTIHXn2s5U8APHqX6w=&amp;h=331&amp;w=262&amp;sz=71&amp;hl=de&amp;start=8&amp;itbs=1&amp;tbnid=1wpyLW3NedewPM:&amp;tbnh=119&amp;tbnw=94&amp;prev=/images%3Fq%3Dversammlung%26hl%3Dde%26gbv%3D2%26tbs%3Disch:1" TargetMode="External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at/imgres?imgurl=http://www.wandtattoos.eu/images/vogelschwarm.jpg&amp;imgrefurl=http://www.wandtattoos.eu/shop/tiere/vogelschwarm.php&amp;usg=__T28GPFWkSM-bvFjZeBD4hu7LQjM=&amp;h=865&amp;w=1204&amp;sz=92&amp;hl=de&amp;start=1&amp;itbs=1&amp;tbnid=TGXCsov6Z65jgM:&amp;tbnh=108&amp;tbnw=150&amp;prev=/images%3Fq%3Dvogelschwarm%26hl%3Dde%26sa%3DG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at/imgres?imgurl=http://www.gastspielreisen.com/iso/img/vogelschwarm1.gif&amp;imgrefurl=http://www.gastspielreisen.com/2-0-Termine.html&amp;usg=__OJwTRLrRM4o3JIV2N4QIEE4QO44=&amp;h=197&amp;w=350&amp;sz=2&amp;hl=de&amp;start=13&amp;itbs=1&amp;tbnid=zPPLCZDRFRODOM:&amp;tbnh=68&amp;tbnw=120&amp;prev=/images%3Fq%3Dvogelschwarm%26hl%3Dde%26sa%3DG%26gbv%3D2%26tbs%3Disch: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at/imgres?imgurl=http://www.egotrek.de/contentdata/files/egotrek/images/schweiz.jpg&amp;imgrefurl=http://www.egotrek.de/wanderregionen/sachsen/saechsische-schweiz/region-saechsische-schweiz%3Fpage%3D0%252C1&amp;usg=__8CZsk6XV7GWy_iPUaBgoY81okZU=&amp;h=282&amp;w=400&amp;sz=39&amp;hl=de&amp;start=8&amp;itbs=1&amp;tbnid=VyzFdMODnGnMsM:&amp;tbnh=87&amp;tbnw=124&amp;prev=/images%3Fq%3Ds%25C3%25A4chsische%2Bschweiz%26hl%3Dde%26sa%3DG%26gbv%3D2%26tbs%3Disch:1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 rot="20857800">
            <a:off x="624600" y="2565360"/>
            <a:ext cx="766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cc0099"/>
                </a:solidFill>
                <a:latin typeface="Tempus Sans ITC"/>
              </a:rPr>
              <a:t>…</a:t>
            </a:r>
            <a:r>
              <a:rPr b="1" lang="de-DE" sz="4400" spc="-1" strike="noStrike">
                <a:solidFill>
                  <a:srgbClr val="cc0099"/>
                </a:solidFill>
                <a:latin typeface="Tempus Sans ITC"/>
              </a:rPr>
              <a:t>on the factors of succ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cc0099"/>
                </a:solidFill>
                <a:latin typeface="Tempus Sans ITC"/>
              </a:rPr>
              <a:t>for territorial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042920" y="692280"/>
            <a:ext cx="79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ndara"/>
              </a:rPr>
              <a:t>Enjoy the synthesis from our four ses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happy%252520and%252520exci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080" y="333360"/>
            <a:ext cx="1358640" cy="1211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5724360" y="465300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rbara Pia Har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uis Fidlsch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bert Luke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5760" y="692280"/>
            <a:ext cx="83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ndara"/>
              </a:rPr>
              <a:t>Each session was introduced by a storytell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95280" y="2133720"/>
            <a:ext cx="842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Agriculture: Franz Kneis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menland Marketing GmbH (Styria), LAG Steirisches Almenland (Sty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Tourism: Peter Th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imbing Tourism, LAG Imst (Ty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Social Affairs: Ursula Feist and Eva Altenmar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llage Services, LAG Großglockner-Mölltal (Carinth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Culture: Susanna and Christian Vö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uriska Association, National Park Hohe Tauern (Salzbu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7"/>
          <p:cNvSpPr/>
          <p:nvPr/>
        </p:nvSpPr>
        <p:spPr>
          <a:xfrm>
            <a:off x="1619280" y="1700280"/>
            <a:ext cx="5388120" cy="3384360"/>
          </a:xfrm>
          <a:custGeom>
            <a:avLst/>
            <a:gdLst>
              <a:gd name="textAreaLeft" fmla="*/ 0 w 5388120"/>
              <a:gd name="textAreaRight" fmla="*/ 5388480 w 538812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3394" h="2290">
                <a:moveTo>
                  <a:pt x="506" y="589"/>
                </a:moveTo>
                <a:cubicBezTo>
                  <a:pt x="355" y="702"/>
                  <a:pt x="106" y="846"/>
                  <a:pt x="53" y="997"/>
                </a:cubicBezTo>
                <a:cubicBezTo>
                  <a:pt x="0" y="1148"/>
                  <a:pt x="113" y="1307"/>
                  <a:pt x="189" y="1496"/>
                </a:cubicBezTo>
                <a:cubicBezTo>
                  <a:pt x="265" y="1685"/>
                  <a:pt x="98" y="2010"/>
                  <a:pt x="506" y="2131"/>
                </a:cubicBezTo>
                <a:cubicBezTo>
                  <a:pt x="914" y="2252"/>
                  <a:pt x="2177" y="2290"/>
                  <a:pt x="2638" y="2222"/>
                </a:cubicBezTo>
                <a:cubicBezTo>
                  <a:pt x="3099" y="2154"/>
                  <a:pt x="3152" y="1897"/>
                  <a:pt x="3273" y="1723"/>
                </a:cubicBezTo>
                <a:cubicBezTo>
                  <a:pt x="3394" y="1549"/>
                  <a:pt x="3394" y="1391"/>
                  <a:pt x="3364" y="1179"/>
                </a:cubicBezTo>
                <a:cubicBezTo>
                  <a:pt x="3334" y="967"/>
                  <a:pt x="3175" y="642"/>
                  <a:pt x="3092" y="453"/>
                </a:cubicBezTo>
                <a:cubicBezTo>
                  <a:pt x="3009" y="264"/>
                  <a:pt x="3046" y="90"/>
                  <a:pt x="2865" y="45"/>
                </a:cubicBezTo>
                <a:cubicBezTo>
                  <a:pt x="2684" y="0"/>
                  <a:pt x="2320" y="136"/>
                  <a:pt x="2003" y="181"/>
                </a:cubicBezTo>
                <a:cubicBezTo>
                  <a:pt x="1686" y="226"/>
                  <a:pt x="1217" y="249"/>
                  <a:pt x="960" y="317"/>
                </a:cubicBezTo>
                <a:cubicBezTo>
                  <a:pt x="703" y="385"/>
                  <a:pt x="657" y="476"/>
                  <a:pt x="506" y="589"/>
                </a:cubicBezTo>
                <a:close/>
              </a:path>
            </a:pathLst>
          </a:custGeom>
          <a:noFill/>
          <a:ln w="442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 rot="5096400">
            <a:off x="952920" y="3878640"/>
            <a:ext cx="2629080" cy="230364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656" h="1451">
                <a:moveTo>
                  <a:pt x="227" y="143"/>
                </a:moveTo>
                <a:cubicBezTo>
                  <a:pt x="159" y="226"/>
                  <a:pt x="0" y="529"/>
                  <a:pt x="91" y="733"/>
                </a:cubicBezTo>
                <a:cubicBezTo>
                  <a:pt x="182" y="937"/>
                  <a:pt x="568" y="1285"/>
                  <a:pt x="772" y="1368"/>
                </a:cubicBezTo>
                <a:cubicBezTo>
                  <a:pt x="976" y="1451"/>
                  <a:pt x="1173" y="1368"/>
                  <a:pt x="1316" y="1232"/>
                </a:cubicBezTo>
                <a:cubicBezTo>
                  <a:pt x="1459" y="1096"/>
                  <a:pt x="1610" y="725"/>
                  <a:pt x="1633" y="551"/>
                </a:cubicBezTo>
                <a:cubicBezTo>
                  <a:pt x="1656" y="377"/>
                  <a:pt x="1543" y="234"/>
                  <a:pt x="1452" y="189"/>
                </a:cubicBezTo>
                <a:cubicBezTo>
                  <a:pt x="1361" y="144"/>
                  <a:pt x="1187" y="309"/>
                  <a:pt x="1089" y="279"/>
                </a:cubicBezTo>
                <a:cubicBezTo>
                  <a:pt x="991" y="249"/>
                  <a:pt x="960" y="14"/>
                  <a:pt x="862" y="7"/>
                </a:cubicBezTo>
                <a:cubicBezTo>
                  <a:pt x="764" y="0"/>
                  <a:pt x="605" y="211"/>
                  <a:pt x="499" y="234"/>
                </a:cubicBezTo>
                <a:cubicBezTo>
                  <a:pt x="393" y="257"/>
                  <a:pt x="295" y="60"/>
                  <a:pt x="227" y="1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 rot="2026200">
            <a:off x="5076360" y="980640"/>
            <a:ext cx="2376720" cy="2087640"/>
          </a:xfrm>
          <a:custGeom>
            <a:avLst/>
            <a:gdLst>
              <a:gd name="textAreaLeft" fmla="*/ 0 w 2376720"/>
              <a:gd name="textAreaRight" fmla="*/ 2376720 w 23767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497" h="997">
                <a:moveTo>
                  <a:pt x="159" y="287"/>
                </a:moveTo>
                <a:cubicBezTo>
                  <a:pt x="0" y="415"/>
                  <a:pt x="174" y="748"/>
                  <a:pt x="249" y="786"/>
                </a:cubicBezTo>
                <a:cubicBezTo>
                  <a:pt x="324" y="824"/>
                  <a:pt x="476" y="483"/>
                  <a:pt x="612" y="513"/>
                </a:cubicBezTo>
                <a:cubicBezTo>
                  <a:pt x="748" y="543"/>
                  <a:pt x="923" y="997"/>
                  <a:pt x="1066" y="967"/>
                </a:cubicBezTo>
                <a:cubicBezTo>
                  <a:pt x="1209" y="937"/>
                  <a:pt x="1451" y="491"/>
                  <a:pt x="1474" y="332"/>
                </a:cubicBezTo>
                <a:cubicBezTo>
                  <a:pt x="1497" y="173"/>
                  <a:pt x="1421" y="30"/>
                  <a:pt x="1202" y="15"/>
                </a:cubicBezTo>
                <a:cubicBezTo>
                  <a:pt x="983" y="0"/>
                  <a:pt x="318" y="159"/>
                  <a:pt x="159" y="28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"/>
          <p:cNvSpPr/>
          <p:nvPr/>
        </p:nvSpPr>
        <p:spPr>
          <a:xfrm>
            <a:off x="1547640" y="1125360"/>
            <a:ext cx="2171880" cy="238932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2389320"/>
              <a:gd name="textAreaBottom" fmla="*/ 2389680 h 2389320"/>
            </a:gdLst>
            <a:ahLst/>
            <a:rect l="textAreaLeft" t="textAreaTop" r="textAreaRight" b="textAreaBottom"/>
            <a:pathLst>
              <a:path w="1368" h="1240">
                <a:moveTo>
                  <a:pt x="45" y="417"/>
                </a:moveTo>
                <a:cubicBezTo>
                  <a:pt x="0" y="568"/>
                  <a:pt x="8" y="863"/>
                  <a:pt x="91" y="916"/>
                </a:cubicBezTo>
                <a:cubicBezTo>
                  <a:pt x="174" y="969"/>
                  <a:pt x="393" y="681"/>
                  <a:pt x="544" y="734"/>
                </a:cubicBezTo>
                <a:cubicBezTo>
                  <a:pt x="695" y="787"/>
                  <a:pt x="862" y="1240"/>
                  <a:pt x="998" y="1233"/>
                </a:cubicBezTo>
                <a:cubicBezTo>
                  <a:pt x="1134" y="1226"/>
                  <a:pt x="1354" y="870"/>
                  <a:pt x="1361" y="689"/>
                </a:cubicBezTo>
                <a:cubicBezTo>
                  <a:pt x="1368" y="508"/>
                  <a:pt x="1134" y="197"/>
                  <a:pt x="1043" y="144"/>
                </a:cubicBezTo>
                <a:cubicBezTo>
                  <a:pt x="952" y="91"/>
                  <a:pt x="930" y="394"/>
                  <a:pt x="817" y="371"/>
                </a:cubicBezTo>
                <a:cubicBezTo>
                  <a:pt x="704" y="348"/>
                  <a:pt x="492" y="0"/>
                  <a:pt x="363" y="8"/>
                </a:cubicBezTo>
                <a:cubicBezTo>
                  <a:pt x="234" y="16"/>
                  <a:pt x="90" y="266"/>
                  <a:pt x="45" y="41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5292720" y="3860640"/>
            <a:ext cx="2497320" cy="1873440"/>
          </a:xfrm>
          <a:custGeom>
            <a:avLst/>
            <a:gdLst>
              <a:gd name="textAreaLeft" fmla="*/ 0 w 2497320"/>
              <a:gd name="textAreaRight" fmla="*/ 2497680 w 2497320"/>
              <a:gd name="textAreaTop" fmla="*/ 0 h 1873440"/>
              <a:gd name="textAreaBottom" fmla="*/ 1873800 h 1873440"/>
            </a:gdLst>
            <a:ahLst/>
            <a:rect l="textAreaLeft" t="textAreaTop" r="textAreaRight" b="textAreaBottom"/>
            <a:pathLst>
              <a:path w="1573" h="1550">
                <a:moveTo>
                  <a:pt x="106" y="174"/>
                </a:moveTo>
                <a:cubicBezTo>
                  <a:pt x="0" y="257"/>
                  <a:pt x="1" y="348"/>
                  <a:pt x="16" y="537"/>
                </a:cubicBezTo>
                <a:cubicBezTo>
                  <a:pt x="31" y="726"/>
                  <a:pt x="31" y="1149"/>
                  <a:pt x="197" y="1308"/>
                </a:cubicBezTo>
                <a:cubicBezTo>
                  <a:pt x="363" y="1467"/>
                  <a:pt x="795" y="1550"/>
                  <a:pt x="1014" y="1490"/>
                </a:cubicBezTo>
                <a:cubicBezTo>
                  <a:pt x="1233" y="1430"/>
                  <a:pt x="1453" y="1126"/>
                  <a:pt x="1513" y="945"/>
                </a:cubicBezTo>
                <a:cubicBezTo>
                  <a:pt x="1573" y="764"/>
                  <a:pt x="1520" y="552"/>
                  <a:pt x="1376" y="401"/>
                </a:cubicBezTo>
                <a:cubicBezTo>
                  <a:pt x="1232" y="250"/>
                  <a:pt x="863" y="76"/>
                  <a:pt x="651" y="38"/>
                </a:cubicBezTo>
                <a:cubicBezTo>
                  <a:pt x="439" y="0"/>
                  <a:pt x="212" y="91"/>
                  <a:pt x="106" y="17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508720" y="155736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Reflection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476360" y="198900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Ideas and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116000" y="4724280"/>
            <a:ext cx="230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364000" y="443700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Implementation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1706400" y="3357720"/>
            <a:ext cx="73080" cy="28728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4500720" y="5043600"/>
            <a:ext cx="14256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 flipH="1" flipV="1">
            <a:off x="6803640" y="2997000"/>
            <a:ext cx="73080" cy="21564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 flipH="1">
            <a:off x="3924360" y="2060640"/>
            <a:ext cx="216000" cy="144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321480" y="404640"/>
            <a:ext cx="45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From bright ideas to real chang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0"/>
          <p:cNvSpPr/>
          <p:nvPr/>
        </p:nvSpPr>
        <p:spPr>
          <a:xfrm rot="10366200">
            <a:off x="4211280" y="475560"/>
            <a:ext cx="1582560" cy="108108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 rot="10366200">
            <a:off x="2324880" y="3501360"/>
            <a:ext cx="1582920" cy="108108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66"/>
          <p:cNvSpPr/>
          <p:nvPr/>
        </p:nvSpPr>
        <p:spPr>
          <a:xfrm rot="10366200">
            <a:off x="3634560" y="3212280"/>
            <a:ext cx="1582920" cy="108108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50"/>
          <p:cNvSpPr/>
          <p:nvPr/>
        </p:nvSpPr>
        <p:spPr>
          <a:xfrm rot="13045200">
            <a:off x="5530680" y="2989080"/>
            <a:ext cx="1973520" cy="193500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1935000"/>
              <a:gd name="textAreaBottom" fmla="*/ 1935360 h 1935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7" descr="got_cheap_binoculars_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38840" y="404640"/>
            <a:ext cx="1308240" cy="1800360"/>
          </a:xfrm>
          <a:prstGeom prst="rect">
            <a:avLst/>
          </a:prstGeom>
          <a:ln w="0">
            <a:noFill/>
          </a:ln>
        </p:spPr>
      </p:pic>
      <p:sp>
        <p:nvSpPr>
          <p:cNvPr id="66" name="Freeform 47"/>
          <p:cNvSpPr/>
          <p:nvPr/>
        </p:nvSpPr>
        <p:spPr>
          <a:xfrm rot="13045200">
            <a:off x="7596000" y="1974240"/>
            <a:ext cx="1563480" cy="122220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222200"/>
              <a:gd name="textAreaBottom" fmla="*/ 1222560 h 12222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4"/>
          <p:cNvSpPr/>
          <p:nvPr/>
        </p:nvSpPr>
        <p:spPr>
          <a:xfrm rot="13045200">
            <a:off x="7704000" y="980280"/>
            <a:ext cx="1440000" cy="13194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9400"/>
              <a:gd name="textAreaBottom" fmla="*/ 1319400 h 1319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3935520" y="3860640"/>
            <a:ext cx="1560240" cy="1092240"/>
          </a:xfrm>
          <a:custGeom>
            <a:avLst/>
            <a:gdLst>
              <a:gd name="textAreaLeft" fmla="*/ 0 w 1560240"/>
              <a:gd name="textAreaRight" fmla="*/ 1560600 w 15602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0" descr="runningmanspi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443700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70" name="Freeform 8"/>
          <p:cNvSpPr/>
          <p:nvPr/>
        </p:nvSpPr>
        <p:spPr>
          <a:xfrm>
            <a:off x="-36360" y="5084640"/>
            <a:ext cx="9288360" cy="1094040"/>
          </a:xfrm>
          <a:custGeom>
            <a:avLst/>
            <a:gdLst>
              <a:gd name="textAreaLeft" fmla="*/ 0 w 9288360"/>
              <a:gd name="textAreaRight" fmla="*/ 9288720 w 9288360"/>
              <a:gd name="textAreaTop" fmla="*/ 0 h 1094040"/>
              <a:gd name="textAreaBottom" fmla="*/ 1094400 h 1094040"/>
            </a:gdLst>
            <a:ahLst/>
            <a:rect l="textAreaLeft" t="textAreaTop" r="textAreaRight" b="textAreaBottom"/>
            <a:pathLst>
              <a:path w="5443" h="689">
                <a:moveTo>
                  <a:pt x="0" y="681"/>
                </a:moveTo>
                <a:cubicBezTo>
                  <a:pt x="98" y="499"/>
                  <a:pt x="197" y="318"/>
                  <a:pt x="363" y="318"/>
                </a:cubicBezTo>
                <a:cubicBezTo>
                  <a:pt x="529" y="318"/>
                  <a:pt x="786" y="689"/>
                  <a:pt x="998" y="681"/>
                </a:cubicBezTo>
                <a:cubicBezTo>
                  <a:pt x="1210" y="673"/>
                  <a:pt x="1414" y="280"/>
                  <a:pt x="1633" y="272"/>
                </a:cubicBezTo>
                <a:cubicBezTo>
                  <a:pt x="1852" y="264"/>
                  <a:pt x="2140" y="642"/>
                  <a:pt x="2314" y="635"/>
                </a:cubicBezTo>
                <a:cubicBezTo>
                  <a:pt x="2488" y="628"/>
                  <a:pt x="2502" y="257"/>
                  <a:pt x="2676" y="227"/>
                </a:cubicBezTo>
                <a:cubicBezTo>
                  <a:pt x="2850" y="197"/>
                  <a:pt x="3191" y="469"/>
                  <a:pt x="3357" y="454"/>
                </a:cubicBezTo>
                <a:cubicBezTo>
                  <a:pt x="3523" y="439"/>
                  <a:pt x="3530" y="136"/>
                  <a:pt x="3674" y="136"/>
                </a:cubicBezTo>
                <a:cubicBezTo>
                  <a:pt x="3818" y="136"/>
                  <a:pt x="4045" y="446"/>
                  <a:pt x="4219" y="454"/>
                </a:cubicBezTo>
                <a:cubicBezTo>
                  <a:pt x="4393" y="462"/>
                  <a:pt x="4612" y="227"/>
                  <a:pt x="4718" y="182"/>
                </a:cubicBezTo>
                <a:cubicBezTo>
                  <a:pt x="4824" y="137"/>
                  <a:pt x="4733" y="212"/>
                  <a:pt x="4854" y="182"/>
                </a:cubicBezTo>
                <a:cubicBezTo>
                  <a:pt x="4975" y="152"/>
                  <a:pt x="5345" y="30"/>
                  <a:pt x="5443" y="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4"/>
          <p:cNvSpPr/>
          <p:nvPr/>
        </p:nvSpPr>
        <p:spPr>
          <a:xfrm>
            <a:off x="611280" y="4005360"/>
            <a:ext cx="2171520" cy="2388960"/>
          </a:xfrm>
          <a:custGeom>
            <a:avLst/>
            <a:gdLst>
              <a:gd name="textAreaLeft" fmla="*/ 0 w 2171520"/>
              <a:gd name="textAreaRight" fmla="*/ 2171880 w 2171520"/>
              <a:gd name="textAreaTop" fmla="*/ 0 h 2388960"/>
              <a:gd name="textAreaBottom" fmla="*/ 2389320 h 2388960"/>
            </a:gdLst>
            <a:ahLst/>
            <a:rect l="textAreaLeft" t="textAreaTop" r="textAreaRight" b="textAreaBottom"/>
            <a:pathLst>
              <a:path w="1368" h="1240">
                <a:moveTo>
                  <a:pt x="45" y="417"/>
                </a:moveTo>
                <a:cubicBezTo>
                  <a:pt x="0" y="568"/>
                  <a:pt x="8" y="863"/>
                  <a:pt x="91" y="916"/>
                </a:cubicBezTo>
                <a:cubicBezTo>
                  <a:pt x="174" y="969"/>
                  <a:pt x="393" y="681"/>
                  <a:pt x="544" y="734"/>
                </a:cubicBezTo>
                <a:cubicBezTo>
                  <a:pt x="695" y="787"/>
                  <a:pt x="862" y="1240"/>
                  <a:pt x="998" y="1233"/>
                </a:cubicBezTo>
                <a:cubicBezTo>
                  <a:pt x="1134" y="1226"/>
                  <a:pt x="1354" y="870"/>
                  <a:pt x="1361" y="689"/>
                </a:cubicBezTo>
                <a:cubicBezTo>
                  <a:pt x="1368" y="508"/>
                  <a:pt x="1134" y="197"/>
                  <a:pt x="1043" y="144"/>
                </a:cubicBezTo>
                <a:cubicBezTo>
                  <a:pt x="952" y="91"/>
                  <a:pt x="930" y="394"/>
                  <a:pt x="817" y="371"/>
                </a:cubicBezTo>
                <a:cubicBezTo>
                  <a:pt x="704" y="348"/>
                  <a:pt x="492" y="0"/>
                  <a:pt x="363" y="8"/>
                </a:cubicBezTo>
                <a:cubicBezTo>
                  <a:pt x="234" y="16"/>
                  <a:pt x="90" y="266"/>
                  <a:pt x="45" y="41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96800" y="49546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Ideas and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5581800" y="5805360"/>
            <a:ext cx="14436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V="1">
            <a:off x="7596360" y="5516280"/>
            <a:ext cx="21564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1547640" y="6165720"/>
            <a:ext cx="21600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2"/>
          <p:cNvSpPr/>
          <p:nvPr/>
        </p:nvSpPr>
        <p:spPr>
          <a:xfrm>
            <a:off x="7561440" y="3068640"/>
            <a:ext cx="1582560" cy="132084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4"/>
          <p:cNvSpPr/>
          <p:nvPr/>
        </p:nvSpPr>
        <p:spPr>
          <a:xfrm>
            <a:off x="250920" y="1197000"/>
            <a:ext cx="1800000" cy="13208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7078680" y="85680"/>
            <a:ext cx="1886040" cy="131940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319400"/>
              <a:gd name="textAreaBottom" fmla="*/ 1319400 h 1319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6"/>
          <p:cNvSpPr/>
          <p:nvPr/>
        </p:nvSpPr>
        <p:spPr>
          <a:xfrm rot="13045200">
            <a:off x="4822560" y="1623600"/>
            <a:ext cx="2247840" cy="1716120"/>
          </a:xfrm>
          <a:custGeom>
            <a:avLst/>
            <a:gdLst>
              <a:gd name="textAreaLeft" fmla="*/ 0 w 2247840"/>
              <a:gd name="textAreaRight" fmla="*/ 2248200 w 224784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7"/>
          <p:cNvSpPr/>
          <p:nvPr/>
        </p:nvSpPr>
        <p:spPr>
          <a:xfrm rot="13045200">
            <a:off x="2842920" y="404640"/>
            <a:ext cx="1295280" cy="935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"/>
          <p:cNvSpPr/>
          <p:nvPr/>
        </p:nvSpPr>
        <p:spPr>
          <a:xfrm>
            <a:off x="2556000" y="1557360"/>
            <a:ext cx="2663640" cy="2016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1" descr="Tweet My Web 7 icon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41497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7164360" y="26028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Look for best practice, colle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250920" y="1557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rain or stress on th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763720" y="1862280"/>
            <a:ext cx="230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Local nature, traditions, (hi)story, knowledge, language, entrepreneurial skills,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7488360" y="342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akeholders on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-93240" y="0"/>
            <a:ext cx="56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If people work on good ideas, let them d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7705800" y="1268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hange of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932360" y="198900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rong partners, locally and exter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234000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hink 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3780000" y="4076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4" descr="sternspritz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47640" y="3716280"/>
            <a:ext cx="1008360" cy="8413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5"/>
          <p:cNvSpPr/>
          <p:nvPr/>
        </p:nvSpPr>
        <p:spPr>
          <a:xfrm>
            <a:off x="223920" y="477720"/>
            <a:ext cx="936720" cy="1224000"/>
          </a:xfrm>
          <a:prstGeom prst="lightningBol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8"/>
          <p:cNvSpPr/>
          <p:nvPr/>
        </p:nvSpPr>
        <p:spPr>
          <a:xfrm rot="13045200">
            <a:off x="4964040" y="4400640"/>
            <a:ext cx="1494000" cy="138888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388880"/>
              <a:gd name="textAreaBottom" fmla="*/ 1388880 h 13888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5076720" y="472428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Be patient and take you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0"/>
          <p:cNvSpPr/>
          <p:nvPr/>
        </p:nvSpPr>
        <p:spPr>
          <a:xfrm rot="13045200">
            <a:off x="6516720" y="2060280"/>
            <a:ext cx="1512720" cy="124776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6516720" y="23493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nternal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2"/>
          <p:cNvSpPr/>
          <p:nvPr/>
        </p:nvSpPr>
        <p:spPr>
          <a:xfrm>
            <a:off x="2843280" y="582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5"/>
          <p:cNvSpPr/>
          <p:nvPr/>
        </p:nvSpPr>
        <p:spPr>
          <a:xfrm rot="13045200">
            <a:off x="2454120" y="4956120"/>
            <a:ext cx="2081520" cy="1542960"/>
          </a:xfrm>
          <a:custGeom>
            <a:avLst/>
            <a:gdLst>
              <a:gd name="textAreaLeft" fmla="*/ 0 w 2081520"/>
              <a:gd name="textAreaRight" fmla="*/ 2081880 w 208152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2556000" y="53737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Get acquainted with LEADER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8"/>
          <p:cNvSpPr/>
          <p:nvPr/>
        </p:nvSpPr>
        <p:spPr>
          <a:xfrm>
            <a:off x="7615080" y="23493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9"/>
          <p:cNvSpPr/>
          <p:nvPr/>
        </p:nvSpPr>
        <p:spPr>
          <a:xfrm>
            <a:off x="5651640" y="342900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Be sure about a common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1"/>
          <p:cNvSpPr/>
          <p:nvPr/>
        </p:nvSpPr>
        <p:spPr>
          <a:xfrm rot="10366200">
            <a:off x="323640" y="2491560"/>
            <a:ext cx="1582560" cy="108108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324000" y="25653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Honest analysis of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53"/>
          <p:cNvSpPr/>
          <p:nvPr/>
        </p:nvSpPr>
        <p:spPr>
          <a:xfrm rot="13045200">
            <a:off x="4642920" y="2851920"/>
            <a:ext cx="1295640" cy="11034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4"/>
          <p:cNvSpPr/>
          <p:nvPr/>
        </p:nvSpPr>
        <p:spPr>
          <a:xfrm>
            <a:off x="4716360" y="3141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hare the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56"/>
          <p:cNvSpPr/>
          <p:nvPr/>
        </p:nvSpPr>
        <p:spPr>
          <a:xfrm rot="13045200">
            <a:off x="6170760" y="4543560"/>
            <a:ext cx="1589040" cy="110304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103040"/>
              <a:gd name="textAreaBottom" fmla="*/ 1103400 h 11030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7"/>
          <p:cNvSpPr/>
          <p:nvPr/>
        </p:nvSpPr>
        <p:spPr>
          <a:xfrm>
            <a:off x="6227640" y="4797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Building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8"/>
          <p:cNvSpPr/>
          <p:nvPr/>
        </p:nvSpPr>
        <p:spPr>
          <a:xfrm rot="13045200">
            <a:off x="1619280" y="1483560"/>
            <a:ext cx="1440000" cy="13194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9400"/>
              <a:gd name="textAreaBottom" fmla="*/ 1319400 h 1319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9"/>
          <p:cNvSpPr/>
          <p:nvPr/>
        </p:nvSpPr>
        <p:spPr>
          <a:xfrm>
            <a:off x="1619280" y="177336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ourage to say: I need hel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0"/>
          <p:cNvSpPr/>
          <p:nvPr/>
        </p:nvSpPr>
        <p:spPr>
          <a:xfrm rot="10366200">
            <a:off x="1460160" y="2851920"/>
            <a:ext cx="1582560" cy="108108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1"/>
          <p:cNvSpPr/>
          <p:nvPr/>
        </p:nvSpPr>
        <p:spPr>
          <a:xfrm>
            <a:off x="1403280" y="3284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New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2"/>
          <p:cNvSpPr/>
          <p:nvPr/>
        </p:nvSpPr>
        <p:spPr>
          <a:xfrm rot="13045200">
            <a:off x="3347640" y="836280"/>
            <a:ext cx="1416240" cy="1031760"/>
          </a:xfrm>
          <a:custGeom>
            <a:avLst/>
            <a:gdLst>
              <a:gd name="textAreaLeft" fmla="*/ 0 w 1416240"/>
              <a:gd name="textAreaRight" fmla="*/ 1416600 w 141624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3"/>
          <p:cNvSpPr/>
          <p:nvPr/>
        </p:nvSpPr>
        <p:spPr>
          <a:xfrm>
            <a:off x="3371760" y="11811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Yes we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3635280" y="3357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xchange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9"/>
          <p:cNvSpPr/>
          <p:nvPr/>
        </p:nvSpPr>
        <p:spPr>
          <a:xfrm rot="7016400">
            <a:off x="4379400" y="1490040"/>
            <a:ext cx="914400" cy="505080"/>
          </a:xfrm>
          <a:prstGeom prst="rightArrow">
            <a:avLst>
              <a:gd name="adj1" fmla="val 50000"/>
              <a:gd name="adj2" fmla="val 45260"/>
            </a:avLst>
          </a:prstGeom>
          <a:solidFill>
            <a:srgbClr val="99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1"/>
          <p:cNvSpPr/>
          <p:nvPr/>
        </p:nvSpPr>
        <p:spPr>
          <a:xfrm>
            <a:off x="4211640" y="620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Roots an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4"/>
          <p:cNvSpPr/>
          <p:nvPr/>
        </p:nvSpPr>
        <p:spPr>
          <a:xfrm rot="13045200">
            <a:off x="1690560" y="403920"/>
            <a:ext cx="1440000" cy="13194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9400"/>
              <a:gd name="textAreaBottom" fmla="*/ 1319400 h 1319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5"/>
          <p:cNvSpPr/>
          <p:nvPr/>
        </p:nvSpPr>
        <p:spPr>
          <a:xfrm>
            <a:off x="1763640" y="62064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nhance local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6"/>
          <p:cNvSpPr/>
          <p:nvPr/>
        </p:nvSpPr>
        <p:spPr>
          <a:xfrm flipV="1">
            <a:off x="8820000" y="5122440"/>
            <a:ext cx="246240" cy="8100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4"/>
          <p:cNvSpPr/>
          <p:nvPr/>
        </p:nvSpPr>
        <p:spPr>
          <a:xfrm>
            <a:off x="0" y="5084640"/>
            <a:ext cx="9288360" cy="1094040"/>
          </a:xfrm>
          <a:custGeom>
            <a:avLst/>
            <a:gdLst>
              <a:gd name="textAreaLeft" fmla="*/ 0 w 9288360"/>
              <a:gd name="textAreaRight" fmla="*/ 9288720 w 9288360"/>
              <a:gd name="textAreaTop" fmla="*/ 0 h 1094040"/>
              <a:gd name="textAreaBottom" fmla="*/ 1094400 h 1094040"/>
            </a:gdLst>
            <a:ahLst/>
            <a:rect l="textAreaLeft" t="textAreaTop" r="textAreaRight" b="textAreaBottom"/>
            <a:pathLst>
              <a:path w="5443" h="689">
                <a:moveTo>
                  <a:pt x="0" y="681"/>
                </a:moveTo>
                <a:cubicBezTo>
                  <a:pt x="98" y="499"/>
                  <a:pt x="197" y="318"/>
                  <a:pt x="363" y="318"/>
                </a:cubicBezTo>
                <a:cubicBezTo>
                  <a:pt x="529" y="318"/>
                  <a:pt x="786" y="689"/>
                  <a:pt x="998" y="681"/>
                </a:cubicBezTo>
                <a:cubicBezTo>
                  <a:pt x="1210" y="673"/>
                  <a:pt x="1414" y="280"/>
                  <a:pt x="1633" y="272"/>
                </a:cubicBezTo>
                <a:cubicBezTo>
                  <a:pt x="1852" y="264"/>
                  <a:pt x="2140" y="642"/>
                  <a:pt x="2314" y="635"/>
                </a:cubicBezTo>
                <a:cubicBezTo>
                  <a:pt x="2488" y="628"/>
                  <a:pt x="2502" y="257"/>
                  <a:pt x="2676" y="227"/>
                </a:cubicBezTo>
                <a:cubicBezTo>
                  <a:pt x="2850" y="197"/>
                  <a:pt x="3191" y="469"/>
                  <a:pt x="3357" y="454"/>
                </a:cubicBezTo>
                <a:cubicBezTo>
                  <a:pt x="3523" y="439"/>
                  <a:pt x="3530" y="136"/>
                  <a:pt x="3674" y="136"/>
                </a:cubicBezTo>
                <a:cubicBezTo>
                  <a:pt x="3818" y="136"/>
                  <a:pt x="4045" y="446"/>
                  <a:pt x="4219" y="454"/>
                </a:cubicBezTo>
                <a:cubicBezTo>
                  <a:pt x="4393" y="462"/>
                  <a:pt x="4612" y="227"/>
                  <a:pt x="4718" y="182"/>
                </a:cubicBezTo>
                <a:cubicBezTo>
                  <a:pt x="4824" y="137"/>
                  <a:pt x="4733" y="212"/>
                  <a:pt x="4854" y="182"/>
                </a:cubicBezTo>
                <a:cubicBezTo>
                  <a:pt x="4975" y="152"/>
                  <a:pt x="5345" y="30"/>
                  <a:pt x="5443" y="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4"/>
          <p:cNvSpPr/>
          <p:nvPr/>
        </p:nvSpPr>
        <p:spPr>
          <a:xfrm>
            <a:off x="6012000" y="3068640"/>
            <a:ext cx="1919160" cy="100800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0" descr="610_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3878280"/>
            <a:ext cx="971640" cy="83808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48"/>
          <p:cNvSpPr/>
          <p:nvPr/>
        </p:nvSpPr>
        <p:spPr>
          <a:xfrm>
            <a:off x="1835280" y="2708280"/>
            <a:ext cx="2016000" cy="17287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0c0c0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3"/>
          <p:cNvSpPr/>
          <p:nvPr/>
        </p:nvSpPr>
        <p:spPr>
          <a:xfrm>
            <a:off x="7308720" y="4292640"/>
            <a:ext cx="1835280" cy="107964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2"/>
          <p:cNvSpPr/>
          <p:nvPr/>
        </p:nvSpPr>
        <p:spPr>
          <a:xfrm>
            <a:off x="6012000" y="4365720"/>
            <a:ext cx="1873080" cy="93492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 flipV="1">
            <a:off x="8820000" y="5148000"/>
            <a:ext cx="246240" cy="8100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V="1">
            <a:off x="7596360" y="5516280"/>
            <a:ext cx="21564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1547640" y="6165720"/>
            <a:ext cx="21600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0"/>
          <p:cNvSpPr/>
          <p:nvPr/>
        </p:nvSpPr>
        <p:spPr>
          <a:xfrm>
            <a:off x="3419640" y="547560"/>
            <a:ext cx="1582560" cy="11052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105200"/>
              <a:gd name="textAreaBottom" fmla="*/ 1105560 h 110520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1"/>
          <p:cNvSpPr/>
          <p:nvPr/>
        </p:nvSpPr>
        <p:spPr>
          <a:xfrm rot="10366200">
            <a:off x="610920" y="2637000"/>
            <a:ext cx="1582560" cy="132048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320480"/>
              <a:gd name="textAreaBottom" fmla="*/ 1320840 h 13204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3"/>
          <p:cNvSpPr/>
          <p:nvPr/>
        </p:nvSpPr>
        <p:spPr>
          <a:xfrm>
            <a:off x="6948360" y="3429000"/>
            <a:ext cx="1944720" cy="13683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368360"/>
              <a:gd name="textAreaBottom" fmla="*/ 1368360 h 13683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4"/>
          <p:cNvSpPr/>
          <p:nvPr/>
        </p:nvSpPr>
        <p:spPr>
          <a:xfrm rot="13045200">
            <a:off x="4758480" y="3429000"/>
            <a:ext cx="1675080" cy="2046240"/>
          </a:xfrm>
          <a:custGeom>
            <a:avLst/>
            <a:gdLst>
              <a:gd name="textAreaLeft" fmla="*/ 0 w 1675080"/>
              <a:gd name="textAreaRight" fmla="*/ 1675440 w 167508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5"/>
          <p:cNvSpPr/>
          <p:nvPr/>
        </p:nvSpPr>
        <p:spPr>
          <a:xfrm rot="13045200">
            <a:off x="1258560" y="549000"/>
            <a:ext cx="1440000" cy="131904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9040"/>
              <a:gd name="textAreaBottom" fmla="*/ 1319400 h 13190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6"/>
          <p:cNvSpPr/>
          <p:nvPr/>
        </p:nvSpPr>
        <p:spPr>
          <a:xfrm>
            <a:off x="1763640" y="1773360"/>
            <a:ext cx="2590920" cy="12952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7113600" y="364500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hings that can be done on the own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085840" y="1967040"/>
            <a:ext cx="18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ssess risks and be ready to take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419640" y="9079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larify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-254520" y="189000"/>
            <a:ext cx="66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The purpose can‘t be bigger than the possibiliti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1332000" y="76500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rain, inform, edu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4673520" y="3933720"/>
            <a:ext cx="16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nterlink and recombine to achieve critical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8200" y="2997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akeholder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0"/>
          <p:cNvSpPr/>
          <p:nvPr/>
        </p:nvSpPr>
        <p:spPr>
          <a:xfrm rot="13045200">
            <a:off x="3817440" y="5090760"/>
            <a:ext cx="1758960" cy="157464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574640"/>
              <a:gd name="textAreaBottom" fmla="*/ 1575000 h 15746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1"/>
          <p:cNvSpPr/>
          <p:nvPr/>
        </p:nvSpPr>
        <p:spPr>
          <a:xfrm>
            <a:off x="3894120" y="5300640"/>
            <a:ext cx="13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reation of a new human pre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2"/>
          <p:cNvSpPr/>
          <p:nvPr/>
        </p:nvSpPr>
        <p:spPr>
          <a:xfrm rot="5096400">
            <a:off x="336960" y="4723200"/>
            <a:ext cx="1871640" cy="2016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656" h="1451">
                <a:moveTo>
                  <a:pt x="227" y="143"/>
                </a:moveTo>
                <a:cubicBezTo>
                  <a:pt x="159" y="226"/>
                  <a:pt x="0" y="529"/>
                  <a:pt x="91" y="733"/>
                </a:cubicBezTo>
                <a:cubicBezTo>
                  <a:pt x="182" y="937"/>
                  <a:pt x="568" y="1285"/>
                  <a:pt x="772" y="1368"/>
                </a:cubicBezTo>
                <a:cubicBezTo>
                  <a:pt x="976" y="1451"/>
                  <a:pt x="1173" y="1368"/>
                  <a:pt x="1316" y="1232"/>
                </a:cubicBezTo>
                <a:cubicBezTo>
                  <a:pt x="1459" y="1096"/>
                  <a:pt x="1610" y="725"/>
                  <a:pt x="1633" y="551"/>
                </a:cubicBezTo>
                <a:cubicBezTo>
                  <a:pt x="1656" y="377"/>
                  <a:pt x="1543" y="234"/>
                  <a:pt x="1452" y="189"/>
                </a:cubicBezTo>
                <a:cubicBezTo>
                  <a:pt x="1361" y="144"/>
                  <a:pt x="1187" y="309"/>
                  <a:pt x="1089" y="279"/>
                </a:cubicBezTo>
                <a:cubicBezTo>
                  <a:pt x="991" y="249"/>
                  <a:pt x="960" y="14"/>
                  <a:pt x="862" y="7"/>
                </a:cubicBezTo>
                <a:cubicBezTo>
                  <a:pt x="764" y="0"/>
                  <a:pt x="605" y="211"/>
                  <a:pt x="499" y="234"/>
                </a:cubicBezTo>
                <a:cubicBezTo>
                  <a:pt x="393" y="257"/>
                  <a:pt x="295" y="60"/>
                  <a:pt x="227" y="1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3"/>
          <p:cNvSpPr/>
          <p:nvPr/>
        </p:nvSpPr>
        <p:spPr>
          <a:xfrm>
            <a:off x="250920" y="5351400"/>
            <a:ext cx="204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6" descr="halley_2">
            <a:hlinkClick r:id="rId3"/>
          </p:cNvPr>
          <p:cNvPicPr/>
          <p:nvPr/>
        </p:nvPicPr>
        <p:blipFill>
          <a:blip r:embed="rId4"/>
          <a:stretch/>
        </p:blipFill>
        <p:spPr>
          <a:xfrm rot="19946400">
            <a:off x="6588000" y="476280"/>
            <a:ext cx="1973520" cy="159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8" descr="heiss-luft-balloon-schauen_~u1595617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907920"/>
            <a:ext cx="1114560" cy="158436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39"/>
          <p:cNvSpPr/>
          <p:nvPr/>
        </p:nvSpPr>
        <p:spPr>
          <a:xfrm>
            <a:off x="6516720" y="5084640"/>
            <a:ext cx="2050920" cy="122400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0"/>
          <p:cNvSpPr/>
          <p:nvPr/>
        </p:nvSpPr>
        <p:spPr>
          <a:xfrm>
            <a:off x="6012000" y="458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1"/>
          <p:cNvSpPr/>
          <p:nvPr/>
        </p:nvSpPr>
        <p:spPr>
          <a:xfrm>
            <a:off x="6588000" y="5300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elect themes you‘re kee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451640" y="4724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45"/>
          <p:cNvSpPr/>
          <p:nvPr/>
        </p:nvSpPr>
        <p:spPr>
          <a:xfrm rot="13045200">
            <a:off x="539640" y="1483560"/>
            <a:ext cx="1440000" cy="13194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319400"/>
              <a:gd name="textAreaBottom" fmla="*/ 1319400 h 13194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6"/>
          <p:cNvSpPr/>
          <p:nvPr/>
        </p:nvSpPr>
        <p:spPr>
          <a:xfrm>
            <a:off x="611280" y="170028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nvolve local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2050920" y="2997360"/>
            <a:ext cx="16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here‘s not so much to see in the first five yea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1"/>
          <p:cNvSpPr/>
          <p:nvPr/>
        </p:nvSpPr>
        <p:spPr>
          <a:xfrm>
            <a:off x="2340000" y="907920"/>
            <a:ext cx="1368360" cy="11052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105200"/>
              <a:gd name="textAreaBottom" fmla="*/ 1105560 h 110520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2268360" y="1125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Diversity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3"/>
          <p:cNvSpPr/>
          <p:nvPr/>
        </p:nvSpPr>
        <p:spPr>
          <a:xfrm>
            <a:off x="7020000" y="1990800"/>
            <a:ext cx="1919160" cy="158256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1582560"/>
              <a:gd name="textAreaBottom" fmla="*/ 1582920 h 15825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55"/>
          <p:cNvSpPr/>
          <p:nvPr/>
        </p:nvSpPr>
        <p:spPr>
          <a:xfrm>
            <a:off x="5003640" y="477720"/>
            <a:ext cx="1486080" cy="71928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719280"/>
              <a:gd name="textAreaBottom" fmla="*/ 719280 h 7192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6"/>
          <p:cNvSpPr/>
          <p:nvPr/>
        </p:nvSpPr>
        <p:spPr>
          <a:xfrm>
            <a:off x="5003640" y="620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59"/>
          <p:cNvSpPr/>
          <p:nvPr/>
        </p:nvSpPr>
        <p:spPr>
          <a:xfrm>
            <a:off x="4932360" y="909720"/>
            <a:ext cx="1486080" cy="7189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0"/>
          <p:cNvSpPr/>
          <p:nvPr/>
        </p:nvSpPr>
        <p:spPr>
          <a:xfrm>
            <a:off x="4932360" y="105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8" descr="mone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64000" y="1341360"/>
            <a:ext cx="706680" cy="7923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4"/>
          <p:cNvSpPr/>
          <p:nvPr/>
        </p:nvSpPr>
        <p:spPr>
          <a:xfrm>
            <a:off x="3564000" y="1989000"/>
            <a:ext cx="2449440" cy="201636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empus Sans ITC"/>
              </a:rPr>
              <a:t>U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1"/>
          <p:cNvSpPr/>
          <p:nvPr/>
        </p:nvSpPr>
        <p:spPr>
          <a:xfrm rot="13045200">
            <a:off x="5803560" y="1961640"/>
            <a:ext cx="1593720" cy="1517760"/>
          </a:xfrm>
          <a:custGeom>
            <a:avLst/>
            <a:gdLst>
              <a:gd name="textAreaLeft" fmla="*/ 0 w 1593720"/>
              <a:gd name="textAreaRight" fmla="*/ 1594080 w 1593720"/>
              <a:gd name="textAreaTop" fmla="*/ 0 h 1517760"/>
              <a:gd name="textAreaBottom" fmla="*/ 1518120 h 15177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2"/>
          <p:cNvSpPr/>
          <p:nvPr/>
        </p:nvSpPr>
        <p:spPr>
          <a:xfrm>
            <a:off x="5724360" y="2205000"/>
            <a:ext cx="15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Learn from history to form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7308720" y="234936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ustainability and long-term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5"/>
          <p:cNvSpPr/>
          <p:nvPr/>
        </p:nvSpPr>
        <p:spPr>
          <a:xfrm>
            <a:off x="6227640" y="3357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trong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6"/>
          <p:cNvSpPr/>
          <p:nvPr/>
        </p:nvSpPr>
        <p:spPr>
          <a:xfrm>
            <a:off x="3852720" y="1341360"/>
            <a:ext cx="1440000" cy="13924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7"/>
          <p:cNvSpPr/>
          <p:nvPr/>
        </p:nvSpPr>
        <p:spPr>
          <a:xfrm>
            <a:off x="370836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ou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"/>
          <p:cNvSpPr/>
          <p:nvPr/>
        </p:nvSpPr>
        <p:spPr>
          <a:xfrm>
            <a:off x="5292720" y="5084640"/>
            <a:ext cx="1655640" cy="11318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5221440" y="5424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uthent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68"/>
          <p:cNvSpPr/>
          <p:nvPr/>
        </p:nvSpPr>
        <p:spPr>
          <a:xfrm rot="13045200">
            <a:off x="3106800" y="3727080"/>
            <a:ext cx="1758960" cy="15480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9"/>
          <p:cNvSpPr/>
          <p:nvPr/>
        </p:nvSpPr>
        <p:spPr>
          <a:xfrm>
            <a:off x="3276720" y="3933720"/>
            <a:ext cx="136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elect ideas to come to a guiding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0"/>
          <p:cNvSpPr/>
          <p:nvPr/>
        </p:nvSpPr>
        <p:spPr>
          <a:xfrm>
            <a:off x="2728800" y="5532480"/>
            <a:ext cx="14472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1"/>
          <p:cNvSpPr/>
          <p:nvPr/>
        </p:nvSpPr>
        <p:spPr>
          <a:xfrm rot="19578600">
            <a:off x="2031480" y="3944520"/>
            <a:ext cx="505080" cy="287280"/>
          </a:xfrm>
          <a:prstGeom prst="rightArrow">
            <a:avLst>
              <a:gd name="adj1" fmla="val 50000"/>
              <a:gd name="adj2" fmla="val 43954"/>
            </a:avLst>
          </a:prstGeom>
          <a:solidFill>
            <a:srgbClr val="c0c0c0"/>
          </a:solidFill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80"/>
          <p:cNvSpPr/>
          <p:nvPr/>
        </p:nvSpPr>
        <p:spPr>
          <a:xfrm rot="10366200">
            <a:off x="2209320" y="1842480"/>
            <a:ext cx="1582920" cy="110484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68"/>
          <p:cNvSpPr/>
          <p:nvPr/>
        </p:nvSpPr>
        <p:spPr>
          <a:xfrm rot="13045200">
            <a:off x="468000" y="1340640"/>
            <a:ext cx="1981080" cy="1941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941480"/>
              <a:gd name="textAreaBottom" fmla="*/ 1941840 h 19414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5"/>
          <p:cNvSpPr/>
          <p:nvPr/>
        </p:nvSpPr>
        <p:spPr>
          <a:xfrm rot="13045200">
            <a:off x="6948360" y="1268280"/>
            <a:ext cx="1779840" cy="1656000"/>
          </a:xfrm>
          <a:custGeom>
            <a:avLst/>
            <a:gdLst>
              <a:gd name="textAreaLeft" fmla="*/ 0 w 1779840"/>
              <a:gd name="textAreaRight" fmla="*/ 1780200 w 177984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020000" y="4292640"/>
            <a:ext cx="1942920" cy="1224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6" descr="2038303667_166e5c75d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4076640"/>
            <a:ext cx="1228680" cy="123840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50"/>
          <p:cNvSpPr/>
          <p:nvPr/>
        </p:nvSpPr>
        <p:spPr>
          <a:xfrm>
            <a:off x="3419640" y="1773360"/>
            <a:ext cx="1657080" cy="8636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4"/>
          <p:cNvSpPr/>
          <p:nvPr/>
        </p:nvSpPr>
        <p:spPr>
          <a:xfrm>
            <a:off x="-36360" y="5084640"/>
            <a:ext cx="9288360" cy="1094040"/>
          </a:xfrm>
          <a:custGeom>
            <a:avLst/>
            <a:gdLst>
              <a:gd name="textAreaLeft" fmla="*/ 0 w 9288360"/>
              <a:gd name="textAreaRight" fmla="*/ 9288720 w 9288360"/>
              <a:gd name="textAreaTop" fmla="*/ 0 h 1094040"/>
              <a:gd name="textAreaBottom" fmla="*/ 1094400 h 1094040"/>
            </a:gdLst>
            <a:ahLst/>
            <a:rect l="textAreaLeft" t="textAreaTop" r="textAreaRight" b="textAreaBottom"/>
            <a:pathLst>
              <a:path w="5443" h="689">
                <a:moveTo>
                  <a:pt x="0" y="681"/>
                </a:moveTo>
                <a:cubicBezTo>
                  <a:pt x="98" y="499"/>
                  <a:pt x="197" y="318"/>
                  <a:pt x="363" y="318"/>
                </a:cubicBezTo>
                <a:cubicBezTo>
                  <a:pt x="529" y="318"/>
                  <a:pt x="786" y="689"/>
                  <a:pt x="998" y="681"/>
                </a:cubicBezTo>
                <a:cubicBezTo>
                  <a:pt x="1210" y="673"/>
                  <a:pt x="1414" y="280"/>
                  <a:pt x="1633" y="272"/>
                </a:cubicBezTo>
                <a:cubicBezTo>
                  <a:pt x="1852" y="264"/>
                  <a:pt x="2140" y="642"/>
                  <a:pt x="2314" y="635"/>
                </a:cubicBezTo>
                <a:cubicBezTo>
                  <a:pt x="2488" y="628"/>
                  <a:pt x="2502" y="257"/>
                  <a:pt x="2676" y="227"/>
                </a:cubicBezTo>
                <a:cubicBezTo>
                  <a:pt x="2850" y="197"/>
                  <a:pt x="3191" y="469"/>
                  <a:pt x="3357" y="454"/>
                </a:cubicBezTo>
                <a:cubicBezTo>
                  <a:pt x="3523" y="439"/>
                  <a:pt x="3530" y="136"/>
                  <a:pt x="3674" y="136"/>
                </a:cubicBezTo>
                <a:cubicBezTo>
                  <a:pt x="3818" y="136"/>
                  <a:pt x="4045" y="446"/>
                  <a:pt x="4219" y="454"/>
                </a:cubicBezTo>
                <a:cubicBezTo>
                  <a:pt x="4393" y="462"/>
                  <a:pt x="4612" y="227"/>
                  <a:pt x="4718" y="182"/>
                </a:cubicBezTo>
                <a:cubicBezTo>
                  <a:pt x="4824" y="137"/>
                  <a:pt x="4733" y="212"/>
                  <a:pt x="4854" y="182"/>
                </a:cubicBezTo>
                <a:cubicBezTo>
                  <a:pt x="4975" y="152"/>
                  <a:pt x="5345" y="30"/>
                  <a:pt x="5443" y="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2744640" y="5530680"/>
            <a:ext cx="14472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V="1">
            <a:off x="7596360" y="5516280"/>
            <a:ext cx="21564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4500720" y="5445000"/>
            <a:ext cx="215640" cy="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4932360" y="1700280"/>
            <a:ext cx="2232000" cy="1585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 rot="13045200">
            <a:off x="6084720" y="475920"/>
            <a:ext cx="1779840" cy="1655640"/>
          </a:xfrm>
          <a:custGeom>
            <a:avLst/>
            <a:gdLst>
              <a:gd name="textAreaLeft" fmla="*/ 0 w 1779840"/>
              <a:gd name="textAreaRight" fmla="*/ 1780200 w 17798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2"/>
          <p:cNvSpPr/>
          <p:nvPr/>
        </p:nvSpPr>
        <p:spPr>
          <a:xfrm rot="13045200">
            <a:off x="7002000" y="21600"/>
            <a:ext cx="2194200" cy="1677960"/>
          </a:xfrm>
          <a:custGeom>
            <a:avLst/>
            <a:gdLst>
              <a:gd name="textAreaLeft" fmla="*/ 0 w 2194200"/>
              <a:gd name="textAreaRight" fmla="*/ 2194560 w 219420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5148360" y="1989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nvolve and connect to the large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584160" y="6410160"/>
            <a:ext cx="40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…</a:t>
            </a: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and there‘s a human tou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7164360" y="333360"/>
            <a:ext cx="170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o-operation is a product in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5867280" y="10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Distribution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2"/>
          <p:cNvSpPr/>
          <p:nvPr/>
        </p:nvSpPr>
        <p:spPr>
          <a:xfrm rot="13045200">
            <a:off x="3182760" y="2773080"/>
            <a:ext cx="1727280" cy="17272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3132000" y="321300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Quality standards and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0"/>
          <p:cNvSpPr/>
          <p:nvPr/>
        </p:nvSpPr>
        <p:spPr>
          <a:xfrm>
            <a:off x="3348000" y="20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Br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3"/>
          <p:cNvSpPr/>
          <p:nvPr/>
        </p:nvSpPr>
        <p:spPr>
          <a:xfrm>
            <a:off x="179280" y="4724280"/>
            <a:ext cx="2497320" cy="1873440"/>
          </a:xfrm>
          <a:custGeom>
            <a:avLst/>
            <a:gdLst>
              <a:gd name="textAreaLeft" fmla="*/ 0 w 2497320"/>
              <a:gd name="textAreaRight" fmla="*/ 2497680 w 2497320"/>
              <a:gd name="textAreaTop" fmla="*/ 0 h 1873440"/>
              <a:gd name="textAreaBottom" fmla="*/ 1873800 h 1873440"/>
            </a:gdLst>
            <a:ahLst/>
            <a:rect l="textAreaLeft" t="textAreaTop" r="textAreaRight" b="textAreaBottom"/>
            <a:pathLst>
              <a:path w="1573" h="1550">
                <a:moveTo>
                  <a:pt x="106" y="174"/>
                </a:moveTo>
                <a:cubicBezTo>
                  <a:pt x="0" y="257"/>
                  <a:pt x="1" y="348"/>
                  <a:pt x="16" y="537"/>
                </a:cubicBezTo>
                <a:cubicBezTo>
                  <a:pt x="31" y="726"/>
                  <a:pt x="31" y="1149"/>
                  <a:pt x="197" y="1308"/>
                </a:cubicBezTo>
                <a:cubicBezTo>
                  <a:pt x="363" y="1467"/>
                  <a:pt x="795" y="1550"/>
                  <a:pt x="1014" y="1490"/>
                </a:cubicBezTo>
                <a:cubicBezTo>
                  <a:pt x="1233" y="1430"/>
                  <a:pt x="1453" y="1126"/>
                  <a:pt x="1513" y="945"/>
                </a:cubicBezTo>
                <a:cubicBezTo>
                  <a:pt x="1573" y="764"/>
                  <a:pt x="1520" y="552"/>
                  <a:pt x="1376" y="401"/>
                </a:cubicBezTo>
                <a:cubicBezTo>
                  <a:pt x="1232" y="250"/>
                  <a:pt x="863" y="76"/>
                  <a:pt x="651" y="38"/>
                </a:cubicBezTo>
                <a:cubicBezTo>
                  <a:pt x="439" y="0"/>
                  <a:pt x="212" y="91"/>
                  <a:pt x="106" y="17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250920" y="5300640"/>
            <a:ext cx="230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Implementation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8" descr="Tretmühlen&#10;Es war einmal vor langer Zeit, da war die Sonnenenergie die einzige Energiequelle. Sie wurde hauptsächlich indirekt genutzt. Wasserkraft, Windkraft und Biomasse waren alles, was man hatte."/>
          <p:cNvPicPr/>
          <p:nvPr/>
        </p:nvPicPr>
        <p:blipFill>
          <a:blip r:embed="rId3"/>
          <a:stretch/>
        </p:blipFill>
        <p:spPr>
          <a:xfrm>
            <a:off x="826920" y="2997360"/>
            <a:ext cx="2521080" cy="182376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39"/>
          <p:cNvSpPr/>
          <p:nvPr/>
        </p:nvSpPr>
        <p:spPr>
          <a:xfrm>
            <a:off x="4498920" y="4941720"/>
            <a:ext cx="2232000" cy="1584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4643280" y="5084640"/>
            <a:ext cx="20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Organizing, managing, achieving in time and in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7"/>
          <p:cNvSpPr/>
          <p:nvPr/>
        </p:nvSpPr>
        <p:spPr>
          <a:xfrm>
            <a:off x="3348000" y="0"/>
            <a:ext cx="1800360" cy="1008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8"/>
          <p:cNvSpPr/>
          <p:nvPr/>
        </p:nvSpPr>
        <p:spPr>
          <a:xfrm>
            <a:off x="3419640" y="189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ailor-ma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9"/>
          <p:cNvSpPr/>
          <p:nvPr/>
        </p:nvSpPr>
        <p:spPr>
          <a:xfrm>
            <a:off x="7020000" y="4437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lients‘ and customers‘s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1"/>
          <p:cNvSpPr/>
          <p:nvPr/>
        </p:nvSpPr>
        <p:spPr>
          <a:xfrm>
            <a:off x="6659640" y="2708280"/>
            <a:ext cx="2232000" cy="17287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6804000" y="30686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Packaging products, services,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4"/>
          <p:cNvSpPr/>
          <p:nvPr/>
        </p:nvSpPr>
        <p:spPr>
          <a:xfrm>
            <a:off x="5292720" y="2781360"/>
            <a:ext cx="1943280" cy="107928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1"/>
          <p:cNvSpPr/>
          <p:nvPr/>
        </p:nvSpPr>
        <p:spPr>
          <a:xfrm>
            <a:off x="5364000" y="299736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Improve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6"/>
          <p:cNvSpPr/>
          <p:nvPr/>
        </p:nvSpPr>
        <p:spPr>
          <a:xfrm>
            <a:off x="6804000" y="1844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Marketing, promotion,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9"/>
          <p:cNvSpPr/>
          <p:nvPr/>
        </p:nvSpPr>
        <p:spPr>
          <a:xfrm>
            <a:off x="3995640" y="549360"/>
            <a:ext cx="2232000" cy="1585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585800"/>
              <a:gd name="textAreaBottom" fmla="*/ 1586160 h 15858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0"/>
          <p:cNvSpPr/>
          <p:nvPr/>
        </p:nvSpPr>
        <p:spPr>
          <a:xfrm>
            <a:off x="4284720" y="83664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ctivity-based destin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2" descr="finger-point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27640" y="4437000"/>
            <a:ext cx="1038240" cy="638280"/>
          </a:xfrm>
          <a:prstGeom prst="rect">
            <a:avLst/>
          </a:prstGeom>
          <a:ln w="0">
            <a:noFill/>
          </a:ln>
        </p:spPr>
      </p:pic>
      <p:sp>
        <p:nvSpPr>
          <p:cNvPr id="213" name="Freeform 63"/>
          <p:cNvSpPr/>
          <p:nvPr/>
        </p:nvSpPr>
        <p:spPr>
          <a:xfrm rot="10366200">
            <a:off x="1423800" y="690120"/>
            <a:ext cx="1582560" cy="144144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4"/>
          <p:cNvSpPr/>
          <p:nvPr/>
        </p:nvSpPr>
        <p:spPr>
          <a:xfrm>
            <a:off x="1403280" y="7650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Training, support, guidance, reward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5"/>
          <p:cNvSpPr/>
          <p:nvPr/>
        </p:nvSpPr>
        <p:spPr>
          <a:xfrm rot="10366200">
            <a:off x="2771280" y="1051920"/>
            <a:ext cx="1582920" cy="110484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6"/>
          <p:cNvSpPr/>
          <p:nvPr/>
        </p:nvSpPr>
        <p:spPr>
          <a:xfrm>
            <a:off x="2700360" y="12859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Be ready for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7"/>
          <p:cNvSpPr/>
          <p:nvPr/>
        </p:nvSpPr>
        <p:spPr>
          <a:xfrm rot="3393000">
            <a:off x="2520000" y="1664280"/>
            <a:ext cx="576360" cy="504720"/>
          </a:xfrm>
          <a:prstGeom prst="rightArrow">
            <a:avLst>
              <a:gd name="adj1" fmla="val 50000"/>
              <a:gd name="adj2" fmla="val 28549"/>
            </a:avLst>
          </a:prstGeom>
          <a:solidFill>
            <a:srgbClr val="cc99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9"/>
          <p:cNvSpPr/>
          <p:nvPr/>
        </p:nvSpPr>
        <p:spPr>
          <a:xfrm>
            <a:off x="438120" y="1916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Communication: Language and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1" descr="monkey_smil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8000" y="5516640"/>
            <a:ext cx="884160" cy="12254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72"/>
          <p:cNvSpPr txBox="1"/>
          <p:nvPr/>
        </p:nvSpPr>
        <p:spPr>
          <a:xfrm>
            <a:off x="7093080" y="5805360"/>
            <a:ext cx="9842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1" name="Freeform 73"/>
          <p:cNvSpPr/>
          <p:nvPr/>
        </p:nvSpPr>
        <p:spPr>
          <a:xfrm>
            <a:off x="5435640" y="44280"/>
            <a:ext cx="1703520" cy="100836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4"/>
          <p:cNvSpPr/>
          <p:nvPr/>
        </p:nvSpPr>
        <p:spPr>
          <a:xfrm>
            <a:off x="5580000" y="26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pecialist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7"/>
          <p:cNvSpPr/>
          <p:nvPr/>
        </p:nvSpPr>
        <p:spPr>
          <a:xfrm>
            <a:off x="2771640" y="4437000"/>
            <a:ext cx="1657440" cy="110484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277164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Job = ho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4067280" y="2421000"/>
            <a:ext cx="1657080" cy="11048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1"/>
          <p:cNvSpPr/>
          <p:nvPr/>
        </p:nvSpPr>
        <p:spPr>
          <a:xfrm>
            <a:off x="4135320" y="259380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ach one feels us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9"/>
          <p:cNvSpPr/>
          <p:nvPr/>
        </p:nvSpPr>
        <p:spPr>
          <a:xfrm>
            <a:off x="17640" y="23652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The customers are the e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1"/>
          <p:cNvSpPr/>
          <p:nvPr/>
        </p:nvSpPr>
        <p:spPr>
          <a:xfrm>
            <a:off x="2195640" y="2205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Volunt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75"/>
          <p:cNvSpPr/>
          <p:nvPr/>
        </p:nvSpPr>
        <p:spPr>
          <a:xfrm rot="10366200">
            <a:off x="5003280" y="3499920"/>
            <a:ext cx="1582920" cy="11052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105200"/>
              <a:gd name="textAreaBottom" fmla="*/ 1105560 h 110520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6"/>
          <p:cNvSpPr/>
          <p:nvPr/>
        </p:nvSpPr>
        <p:spPr>
          <a:xfrm>
            <a:off x="5003640" y="378936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Sharing power and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7" descr="5676777"/>
          <p:cNvPicPr/>
          <p:nvPr/>
        </p:nvPicPr>
        <p:blipFill>
          <a:blip r:embed="rId8"/>
          <a:stretch/>
        </p:blipFill>
        <p:spPr>
          <a:xfrm>
            <a:off x="684360" y="1341360"/>
            <a:ext cx="6649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6"/>
          <p:cNvSpPr/>
          <p:nvPr/>
        </p:nvSpPr>
        <p:spPr>
          <a:xfrm rot="13045200">
            <a:off x="6443280" y="2421000"/>
            <a:ext cx="1798560" cy="152568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2" descr="Laempel_Album_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0"/>
            <a:ext cx="1104840" cy="130500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49"/>
          <p:cNvSpPr/>
          <p:nvPr/>
        </p:nvSpPr>
        <p:spPr>
          <a:xfrm rot="13045200">
            <a:off x="4879440" y="2641680"/>
            <a:ext cx="2232360" cy="1728720"/>
          </a:xfrm>
          <a:custGeom>
            <a:avLst/>
            <a:gdLst>
              <a:gd name="textAreaLeft" fmla="*/ 0 w 2232360"/>
              <a:gd name="textAreaRight" fmla="*/ 2232720 w 223236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68"/>
          <p:cNvSpPr/>
          <p:nvPr/>
        </p:nvSpPr>
        <p:spPr>
          <a:xfrm rot="13045200">
            <a:off x="3132000" y="2708280"/>
            <a:ext cx="2376720" cy="222264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222640"/>
              <a:gd name="textAreaBottom" fmla="*/ 2223000 h 222264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6" descr="Feedba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052640"/>
            <a:ext cx="2448000" cy="194292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6"/>
          <p:cNvSpPr/>
          <p:nvPr/>
        </p:nvSpPr>
        <p:spPr>
          <a:xfrm rot="20989800">
            <a:off x="-144360" y="4292640"/>
            <a:ext cx="9288360" cy="1093680"/>
          </a:xfrm>
          <a:custGeom>
            <a:avLst/>
            <a:gdLst>
              <a:gd name="textAreaLeft" fmla="*/ 0 w 9288360"/>
              <a:gd name="textAreaRight" fmla="*/ 9288720 w 928836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5443" h="689">
                <a:moveTo>
                  <a:pt x="0" y="681"/>
                </a:moveTo>
                <a:cubicBezTo>
                  <a:pt x="98" y="499"/>
                  <a:pt x="197" y="318"/>
                  <a:pt x="363" y="318"/>
                </a:cubicBezTo>
                <a:cubicBezTo>
                  <a:pt x="529" y="318"/>
                  <a:pt x="786" y="689"/>
                  <a:pt x="998" y="681"/>
                </a:cubicBezTo>
                <a:cubicBezTo>
                  <a:pt x="1210" y="673"/>
                  <a:pt x="1414" y="280"/>
                  <a:pt x="1633" y="272"/>
                </a:cubicBezTo>
                <a:cubicBezTo>
                  <a:pt x="1852" y="264"/>
                  <a:pt x="2140" y="642"/>
                  <a:pt x="2314" y="635"/>
                </a:cubicBezTo>
                <a:cubicBezTo>
                  <a:pt x="2488" y="628"/>
                  <a:pt x="2502" y="257"/>
                  <a:pt x="2676" y="227"/>
                </a:cubicBezTo>
                <a:cubicBezTo>
                  <a:pt x="2850" y="197"/>
                  <a:pt x="3191" y="469"/>
                  <a:pt x="3357" y="454"/>
                </a:cubicBezTo>
                <a:cubicBezTo>
                  <a:pt x="3523" y="439"/>
                  <a:pt x="3530" y="136"/>
                  <a:pt x="3674" y="136"/>
                </a:cubicBezTo>
                <a:cubicBezTo>
                  <a:pt x="3818" y="136"/>
                  <a:pt x="4045" y="446"/>
                  <a:pt x="4219" y="454"/>
                </a:cubicBezTo>
                <a:cubicBezTo>
                  <a:pt x="4393" y="462"/>
                  <a:pt x="4612" y="227"/>
                  <a:pt x="4718" y="182"/>
                </a:cubicBezTo>
                <a:cubicBezTo>
                  <a:pt x="4824" y="137"/>
                  <a:pt x="4733" y="212"/>
                  <a:pt x="4854" y="182"/>
                </a:cubicBezTo>
                <a:cubicBezTo>
                  <a:pt x="4975" y="152"/>
                  <a:pt x="5345" y="30"/>
                  <a:pt x="5443" y="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V="1">
            <a:off x="8748720" y="5373360"/>
            <a:ext cx="21600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3203640" y="5157720"/>
            <a:ext cx="216000" cy="14292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0"/>
          <p:cNvSpPr/>
          <p:nvPr/>
        </p:nvSpPr>
        <p:spPr>
          <a:xfrm>
            <a:off x="1619280" y="2708280"/>
            <a:ext cx="1654200" cy="132084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1"/>
          <p:cNvSpPr/>
          <p:nvPr/>
        </p:nvSpPr>
        <p:spPr>
          <a:xfrm rot="10366200">
            <a:off x="2987280" y="835920"/>
            <a:ext cx="1441440" cy="1081080"/>
          </a:xfrm>
          <a:custGeom>
            <a:avLst/>
            <a:gdLst>
              <a:gd name="textAreaLeft" fmla="*/ 0 w 1441440"/>
              <a:gd name="textAreaRight" fmla="*/ 1441440 w 1441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619280" y="3068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xchange of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"/>
          <p:cNvSpPr/>
          <p:nvPr/>
        </p:nvSpPr>
        <p:spPr>
          <a:xfrm rot="3633000">
            <a:off x="6977160" y="199224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3300"/>
                </a:solidFill>
                <a:latin typeface="Candara"/>
              </a:rPr>
              <a:t>…</a:t>
            </a:r>
            <a:r>
              <a:rPr b="1" lang="de-DE" sz="2400" spc="-1" strike="noStrike">
                <a:solidFill>
                  <a:srgbClr val="663300"/>
                </a:solidFill>
                <a:latin typeface="Candara"/>
              </a:rPr>
              <a:t>and on it go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2843280" y="119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3"/>
          <p:cNvSpPr/>
          <p:nvPr/>
        </p:nvSpPr>
        <p:spPr>
          <a:xfrm>
            <a:off x="4500720" y="189000"/>
            <a:ext cx="1703160" cy="1008000"/>
          </a:xfrm>
          <a:custGeom>
            <a:avLst/>
            <a:gdLst>
              <a:gd name="textAreaLeft" fmla="*/ 0 w 1703160"/>
              <a:gd name="textAreaRight" fmla="*/ 1703520 w 1703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73" h="831">
                <a:moveTo>
                  <a:pt x="15" y="325"/>
                </a:moveTo>
                <a:cubicBezTo>
                  <a:pt x="0" y="461"/>
                  <a:pt x="385" y="817"/>
                  <a:pt x="559" y="824"/>
                </a:cubicBezTo>
                <a:cubicBezTo>
                  <a:pt x="733" y="831"/>
                  <a:pt x="1043" y="506"/>
                  <a:pt x="1058" y="370"/>
                </a:cubicBezTo>
                <a:cubicBezTo>
                  <a:pt x="1073" y="234"/>
                  <a:pt x="816" y="14"/>
                  <a:pt x="650" y="7"/>
                </a:cubicBezTo>
                <a:cubicBezTo>
                  <a:pt x="484" y="0"/>
                  <a:pt x="30" y="189"/>
                  <a:pt x="15" y="325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4"/>
          <p:cNvSpPr/>
          <p:nvPr/>
        </p:nvSpPr>
        <p:spPr>
          <a:xfrm>
            <a:off x="4643280" y="333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xternal con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2"/>
          <p:cNvSpPr/>
          <p:nvPr/>
        </p:nvSpPr>
        <p:spPr>
          <a:xfrm rot="2026200">
            <a:off x="0" y="4508640"/>
            <a:ext cx="2376360" cy="2087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2087280"/>
              <a:gd name="textAreaBottom" fmla="*/ 2087640 h 2087280"/>
            </a:gdLst>
            <a:ahLst/>
            <a:rect l="textAreaLeft" t="textAreaTop" r="textAreaRight" b="textAreaBottom"/>
            <a:pathLst>
              <a:path w="1497" h="997">
                <a:moveTo>
                  <a:pt x="159" y="287"/>
                </a:moveTo>
                <a:cubicBezTo>
                  <a:pt x="0" y="415"/>
                  <a:pt x="174" y="748"/>
                  <a:pt x="249" y="786"/>
                </a:cubicBezTo>
                <a:cubicBezTo>
                  <a:pt x="324" y="824"/>
                  <a:pt x="476" y="483"/>
                  <a:pt x="612" y="513"/>
                </a:cubicBezTo>
                <a:cubicBezTo>
                  <a:pt x="748" y="543"/>
                  <a:pt x="923" y="997"/>
                  <a:pt x="1066" y="967"/>
                </a:cubicBezTo>
                <a:cubicBezTo>
                  <a:pt x="1209" y="937"/>
                  <a:pt x="1451" y="491"/>
                  <a:pt x="1474" y="332"/>
                </a:cubicBezTo>
                <a:cubicBezTo>
                  <a:pt x="1497" y="173"/>
                  <a:pt x="1421" y="30"/>
                  <a:pt x="1202" y="15"/>
                </a:cubicBezTo>
                <a:cubicBezTo>
                  <a:pt x="983" y="0"/>
                  <a:pt x="318" y="159"/>
                  <a:pt x="159" y="28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31640" y="508464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Reflection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47"/>
          <p:cNvSpPr/>
          <p:nvPr/>
        </p:nvSpPr>
        <p:spPr>
          <a:xfrm>
            <a:off x="5148360" y="1773360"/>
            <a:ext cx="1654200" cy="132084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997" h="832">
                <a:moveTo>
                  <a:pt x="159" y="91"/>
                </a:moveTo>
                <a:cubicBezTo>
                  <a:pt x="30" y="182"/>
                  <a:pt x="0" y="620"/>
                  <a:pt x="113" y="726"/>
                </a:cubicBezTo>
                <a:cubicBezTo>
                  <a:pt x="226" y="832"/>
                  <a:pt x="710" y="817"/>
                  <a:pt x="839" y="726"/>
                </a:cubicBezTo>
                <a:cubicBezTo>
                  <a:pt x="968" y="635"/>
                  <a:pt x="997" y="288"/>
                  <a:pt x="884" y="182"/>
                </a:cubicBezTo>
                <a:cubicBezTo>
                  <a:pt x="771" y="76"/>
                  <a:pt x="288" y="0"/>
                  <a:pt x="159" y="91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8"/>
          <p:cNvSpPr/>
          <p:nvPr/>
        </p:nvSpPr>
        <p:spPr>
          <a:xfrm>
            <a:off x="5148360" y="198900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re local people apprecia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0"/>
          <p:cNvSpPr/>
          <p:nvPr/>
        </p:nvSpPr>
        <p:spPr>
          <a:xfrm>
            <a:off x="5148360" y="314172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ccepting the culture of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51"/>
          <p:cNvSpPr/>
          <p:nvPr/>
        </p:nvSpPr>
        <p:spPr>
          <a:xfrm>
            <a:off x="6300720" y="3933720"/>
            <a:ext cx="2376720" cy="292428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924280"/>
              <a:gd name="textAreaBottom" fmla="*/ 2924640 h 2924280"/>
            </a:gdLst>
            <a:ahLst/>
            <a:rect l="textAreaLeft" t="textAreaTop" r="textAreaRight" b="textAreaBottom"/>
            <a:pathLst>
              <a:path w="1368" h="1240">
                <a:moveTo>
                  <a:pt x="45" y="417"/>
                </a:moveTo>
                <a:cubicBezTo>
                  <a:pt x="0" y="568"/>
                  <a:pt x="8" y="863"/>
                  <a:pt x="91" y="916"/>
                </a:cubicBezTo>
                <a:cubicBezTo>
                  <a:pt x="174" y="969"/>
                  <a:pt x="393" y="681"/>
                  <a:pt x="544" y="734"/>
                </a:cubicBezTo>
                <a:cubicBezTo>
                  <a:pt x="695" y="787"/>
                  <a:pt x="862" y="1240"/>
                  <a:pt x="998" y="1233"/>
                </a:cubicBezTo>
                <a:cubicBezTo>
                  <a:pt x="1134" y="1226"/>
                  <a:pt x="1354" y="870"/>
                  <a:pt x="1361" y="689"/>
                </a:cubicBezTo>
                <a:cubicBezTo>
                  <a:pt x="1368" y="508"/>
                  <a:pt x="1134" y="197"/>
                  <a:pt x="1043" y="144"/>
                </a:cubicBezTo>
                <a:cubicBezTo>
                  <a:pt x="952" y="91"/>
                  <a:pt x="930" y="394"/>
                  <a:pt x="817" y="371"/>
                </a:cubicBezTo>
                <a:cubicBezTo>
                  <a:pt x="704" y="348"/>
                  <a:pt x="492" y="0"/>
                  <a:pt x="363" y="8"/>
                </a:cubicBezTo>
                <a:cubicBezTo>
                  <a:pt x="234" y="16"/>
                  <a:pt x="90" y="266"/>
                  <a:pt x="45" y="41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6227640" y="5157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empus Sans ITC"/>
              </a:rPr>
              <a:t>Ideas and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3"/>
          <p:cNvSpPr/>
          <p:nvPr/>
        </p:nvSpPr>
        <p:spPr>
          <a:xfrm flipV="1">
            <a:off x="5479920" y="4768920"/>
            <a:ext cx="216000" cy="7128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55"/>
          <p:cNvSpPr/>
          <p:nvPr/>
        </p:nvSpPr>
        <p:spPr>
          <a:xfrm>
            <a:off x="8532720" y="5300640"/>
            <a:ext cx="719280" cy="360360"/>
          </a:xfrm>
          <a:custGeom>
            <a:avLst/>
            <a:gdLst>
              <a:gd name="textAreaLeft" fmla="*/ 0 w 719280"/>
              <a:gd name="textAreaRight" fmla="*/ 719640 w 719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453" h="227">
                <a:moveTo>
                  <a:pt x="0" y="227"/>
                </a:moveTo>
                <a:cubicBezTo>
                  <a:pt x="98" y="155"/>
                  <a:pt x="197" y="84"/>
                  <a:pt x="272" y="46"/>
                </a:cubicBezTo>
                <a:cubicBezTo>
                  <a:pt x="347" y="8"/>
                  <a:pt x="423" y="8"/>
                  <a:pt x="453" y="0"/>
                </a:cubicBezTo>
              </a:path>
            </a:pathLst>
          </a:custGeom>
          <a:noFill/>
          <a:ln w="284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6"/>
          <p:cNvSpPr/>
          <p:nvPr/>
        </p:nvSpPr>
        <p:spPr>
          <a:xfrm flipV="1">
            <a:off x="8928000" y="3357360"/>
            <a:ext cx="21600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9"/>
          <p:cNvSpPr/>
          <p:nvPr/>
        </p:nvSpPr>
        <p:spPr>
          <a:xfrm rot="19667400">
            <a:off x="7951680" y="3928680"/>
            <a:ext cx="992160" cy="1523880"/>
          </a:xfrm>
          <a:prstGeom prst="upDownArrow">
            <a:avLst>
              <a:gd name="adj1" fmla="val 52639"/>
              <a:gd name="adj2" fmla="val 41136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el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0"/>
          <p:cNvSpPr/>
          <p:nvPr/>
        </p:nvSpPr>
        <p:spPr>
          <a:xfrm>
            <a:off x="395280" y="981000"/>
            <a:ext cx="2665440" cy="216072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983" h="877">
                <a:moveTo>
                  <a:pt x="38" y="189"/>
                </a:moveTo>
                <a:cubicBezTo>
                  <a:pt x="0" y="317"/>
                  <a:pt x="159" y="771"/>
                  <a:pt x="310" y="824"/>
                </a:cubicBezTo>
                <a:cubicBezTo>
                  <a:pt x="461" y="877"/>
                  <a:pt x="907" y="635"/>
                  <a:pt x="945" y="507"/>
                </a:cubicBezTo>
                <a:cubicBezTo>
                  <a:pt x="983" y="379"/>
                  <a:pt x="696" y="106"/>
                  <a:pt x="537" y="53"/>
                </a:cubicBezTo>
                <a:cubicBezTo>
                  <a:pt x="378" y="0"/>
                  <a:pt x="76" y="61"/>
                  <a:pt x="38" y="18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1"/>
          <p:cNvSpPr/>
          <p:nvPr/>
        </p:nvSpPr>
        <p:spPr>
          <a:xfrm>
            <a:off x="539640" y="1125360"/>
            <a:ext cx="20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Economic sustainability (for businesses) or regular funding (for social innov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5" descr="Versammlu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52520" y="3716280"/>
            <a:ext cx="966960" cy="12254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67"/>
          <p:cNvSpPr/>
          <p:nvPr/>
        </p:nvSpPr>
        <p:spPr>
          <a:xfrm>
            <a:off x="6372360" y="285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Learn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9"/>
          <p:cNvSpPr/>
          <p:nvPr/>
        </p:nvSpPr>
        <p:spPr>
          <a:xfrm>
            <a:off x="3132000" y="321300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empus Sans ITC"/>
              </a:rPr>
              <a:t>Assessment of impact on the area (environment, soci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0"/>
          <p:cNvSpPr/>
          <p:nvPr/>
        </p:nvSpPr>
        <p:spPr>
          <a:xfrm>
            <a:off x="44280" y="236520"/>
            <a:ext cx="33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ndara"/>
              </a:rPr>
              <a:t>Mistakes are importa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1"/>
          <p:cNvSpPr/>
          <p:nvPr/>
        </p:nvSpPr>
        <p:spPr>
          <a:xfrm flipV="1">
            <a:off x="8028000" y="3817800"/>
            <a:ext cx="216000" cy="14472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2"/>
          <p:cNvSpPr/>
          <p:nvPr/>
        </p:nvSpPr>
        <p:spPr>
          <a:xfrm flipV="1">
            <a:off x="8244000" y="4033440"/>
            <a:ext cx="215640" cy="144360"/>
          </a:xfrm>
          <a:prstGeom prst="line">
            <a:avLst/>
          </a:prstGeom>
          <a:ln w="856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7" descr=""/>
          <p:cNvPicPr/>
          <p:nvPr/>
        </p:nvPicPr>
        <p:blipFill>
          <a:blip r:embed="rId7"/>
          <a:stretch/>
        </p:blipFill>
        <p:spPr>
          <a:xfrm>
            <a:off x="4284720" y="5229360"/>
            <a:ext cx="1727280" cy="12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7" descr="vogelsch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692280"/>
            <a:ext cx="2232000" cy="16081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 rot="20857800">
            <a:off x="2022840" y="2276280"/>
            <a:ext cx="578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00"/>
                </a:solidFill>
                <a:latin typeface="Tempus Sans ITC"/>
              </a:rPr>
              <a:t>A really good project is 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00"/>
                </a:solidFill>
                <a:latin typeface="Tempus Sans ITC"/>
              </a:rPr>
              <a:t>which works ever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329200" y="5950080"/>
            <a:ext cx="68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33"/>
                </a:solidFill>
                <a:latin typeface="Candara"/>
              </a:rPr>
              <a:t>People are the measure of all th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395280" y="189000"/>
            <a:ext cx="29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ndara"/>
              </a:rPr>
              <a:t>Speaking about transf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096200" y="5300640"/>
            <a:ext cx="69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00cc"/>
                </a:solidFill>
                <a:latin typeface="Candara"/>
              </a:rPr>
              <a:t>Only projects built on people are authenti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-231480" y="4653000"/>
            <a:ext cx="72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Candara"/>
              </a:rPr>
              <a:t>Our living power comes from our cultural backgroun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5"/>
          <p:cNvSpPr/>
          <p:nvPr/>
        </p:nvSpPr>
        <p:spPr>
          <a:xfrm>
            <a:off x="-25560" y="797040"/>
            <a:ext cx="9258480" cy="2466720"/>
          </a:xfrm>
          <a:custGeom>
            <a:avLst/>
            <a:gdLst>
              <a:gd name="textAreaLeft" fmla="*/ 0 w 9258480"/>
              <a:gd name="textAreaRight" fmla="*/ 9258840 w 9258480"/>
              <a:gd name="textAreaTop" fmla="*/ 0 h 2466720"/>
              <a:gd name="textAreaBottom" fmla="*/ 2467080 h 2466720"/>
            </a:gdLst>
            <a:ahLst/>
            <a:rect l="textAreaLeft" t="textAreaTop" r="textAreaRight" b="textAreaBottom"/>
            <a:pathLst>
              <a:path w="5832" h="1554">
                <a:moveTo>
                  <a:pt x="0" y="1466"/>
                </a:moveTo>
                <a:cubicBezTo>
                  <a:pt x="11" y="1459"/>
                  <a:pt x="50" y="1433"/>
                  <a:pt x="56" y="1426"/>
                </a:cubicBezTo>
                <a:cubicBezTo>
                  <a:pt x="61" y="1420"/>
                  <a:pt x="58" y="1408"/>
                  <a:pt x="64" y="1402"/>
                </a:cubicBezTo>
                <a:cubicBezTo>
                  <a:pt x="75" y="1391"/>
                  <a:pt x="91" y="1386"/>
                  <a:pt x="104" y="1378"/>
                </a:cubicBezTo>
                <a:cubicBezTo>
                  <a:pt x="121" y="1345"/>
                  <a:pt x="129" y="1326"/>
                  <a:pt x="160" y="1306"/>
                </a:cubicBezTo>
                <a:cubicBezTo>
                  <a:pt x="176" y="1259"/>
                  <a:pt x="216" y="1252"/>
                  <a:pt x="256" y="1234"/>
                </a:cubicBezTo>
                <a:cubicBezTo>
                  <a:pt x="278" y="1224"/>
                  <a:pt x="320" y="1202"/>
                  <a:pt x="320" y="1202"/>
                </a:cubicBezTo>
                <a:cubicBezTo>
                  <a:pt x="401" y="1222"/>
                  <a:pt x="385" y="1280"/>
                  <a:pt x="464" y="1306"/>
                </a:cubicBezTo>
                <a:cubicBezTo>
                  <a:pt x="480" y="1295"/>
                  <a:pt x="496" y="1285"/>
                  <a:pt x="512" y="1274"/>
                </a:cubicBezTo>
                <a:cubicBezTo>
                  <a:pt x="521" y="1268"/>
                  <a:pt x="515" y="1252"/>
                  <a:pt x="520" y="1242"/>
                </a:cubicBezTo>
                <a:cubicBezTo>
                  <a:pt x="526" y="1230"/>
                  <a:pt x="536" y="1221"/>
                  <a:pt x="544" y="1210"/>
                </a:cubicBezTo>
                <a:cubicBezTo>
                  <a:pt x="549" y="1194"/>
                  <a:pt x="555" y="1178"/>
                  <a:pt x="560" y="1162"/>
                </a:cubicBezTo>
                <a:cubicBezTo>
                  <a:pt x="563" y="1154"/>
                  <a:pt x="568" y="1138"/>
                  <a:pt x="568" y="1138"/>
                </a:cubicBezTo>
                <a:cubicBezTo>
                  <a:pt x="601" y="1171"/>
                  <a:pt x="597" y="1207"/>
                  <a:pt x="632" y="1242"/>
                </a:cubicBezTo>
                <a:cubicBezTo>
                  <a:pt x="672" y="1282"/>
                  <a:pt x="713" y="1288"/>
                  <a:pt x="760" y="1314"/>
                </a:cubicBezTo>
                <a:cubicBezTo>
                  <a:pt x="808" y="1340"/>
                  <a:pt x="813" y="1349"/>
                  <a:pt x="864" y="1362"/>
                </a:cubicBezTo>
                <a:cubicBezTo>
                  <a:pt x="919" y="1399"/>
                  <a:pt x="927" y="1481"/>
                  <a:pt x="992" y="1514"/>
                </a:cubicBezTo>
                <a:cubicBezTo>
                  <a:pt x="1024" y="1530"/>
                  <a:pt x="1062" y="1528"/>
                  <a:pt x="1096" y="1538"/>
                </a:cubicBezTo>
                <a:cubicBezTo>
                  <a:pt x="1112" y="1543"/>
                  <a:pt x="1144" y="1554"/>
                  <a:pt x="1144" y="1554"/>
                </a:cubicBezTo>
                <a:cubicBezTo>
                  <a:pt x="1174" y="1534"/>
                  <a:pt x="1178" y="1510"/>
                  <a:pt x="1208" y="1490"/>
                </a:cubicBezTo>
                <a:cubicBezTo>
                  <a:pt x="1220" y="1473"/>
                  <a:pt x="1238" y="1460"/>
                  <a:pt x="1248" y="1442"/>
                </a:cubicBezTo>
                <a:cubicBezTo>
                  <a:pt x="1268" y="1406"/>
                  <a:pt x="1254" y="1396"/>
                  <a:pt x="1280" y="1370"/>
                </a:cubicBezTo>
                <a:cubicBezTo>
                  <a:pt x="1287" y="1363"/>
                  <a:pt x="1297" y="1360"/>
                  <a:pt x="1304" y="1354"/>
                </a:cubicBezTo>
                <a:cubicBezTo>
                  <a:pt x="1324" y="1336"/>
                  <a:pt x="1360" y="1298"/>
                  <a:pt x="1360" y="1298"/>
                </a:cubicBezTo>
                <a:cubicBezTo>
                  <a:pt x="1389" y="1211"/>
                  <a:pt x="1447" y="1107"/>
                  <a:pt x="1512" y="1042"/>
                </a:cubicBezTo>
                <a:cubicBezTo>
                  <a:pt x="1521" y="1005"/>
                  <a:pt x="1528" y="991"/>
                  <a:pt x="1560" y="970"/>
                </a:cubicBezTo>
                <a:cubicBezTo>
                  <a:pt x="1592" y="978"/>
                  <a:pt x="1613" y="984"/>
                  <a:pt x="1640" y="1002"/>
                </a:cubicBezTo>
                <a:cubicBezTo>
                  <a:pt x="1685" y="1070"/>
                  <a:pt x="1767" y="1067"/>
                  <a:pt x="1840" y="1082"/>
                </a:cubicBezTo>
                <a:cubicBezTo>
                  <a:pt x="1912" y="1077"/>
                  <a:pt x="1984" y="1076"/>
                  <a:pt x="2056" y="1066"/>
                </a:cubicBezTo>
                <a:cubicBezTo>
                  <a:pt x="2102" y="1060"/>
                  <a:pt x="2148" y="994"/>
                  <a:pt x="2184" y="970"/>
                </a:cubicBezTo>
                <a:cubicBezTo>
                  <a:pt x="2291" y="983"/>
                  <a:pt x="2360" y="982"/>
                  <a:pt x="2472" y="970"/>
                </a:cubicBezTo>
                <a:cubicBezTo>
                  <a:pt x="2486" y="965"/>
                  <a:pt x="2528" y="952"/>
                  <a:pt x="2536" y="946"/>
                </a:cubicBezTo>
                <a:cubicBezTo>
                  <a:pt x="2547" y="938"/>
                  <a:pt x="2549" y="922"/>
                  <a:pt x="2560" y="914"/>
                </a:cubicBezTo>
                <a:cubicBezTo>
                  <a:pt x="2571" y="905"/>
                  <a:pt x="2587" y="904"/>
                  <a:pt x="2600" y="898"/>
                </a:cubicBezTo>
                <a:cubicBezTo>
                  <a:pt x="2621" y="888"/>
                  <a:pt x="2635" y="867"/>
                  <a:pt x="2656" y="858"/>
                </a:cubicBezTo>
                <a:cubicBezTo>
                  <a:pt x="2723" y="828"/>
                  <a:pt x="2802" y="830"/>
                  <a:pt x="2872" y="810"/>
                </a:cubicBezTo>
                <a:cubicBezTo>
                  <a:pt x="2907" y="786"/>
                  <a:pt x="2933" y="754"/>
                  <a:pt x="2968" y="730"/>
                </a:cubicBezTo>
                <a:cubicBezTo>
                  <a:pt x="2991" y="638"/>
                  <a:pt x="2959" y="751"/>
                  <a:pt x="2992" y="674"/>
                </a:cubicBezTo>
                <a:cubicBezTo>
                  <a:pt x="3038" y="567"/>
                  <a:pt x="2969" y="704"/>
                  <a:pt x="3008" y="618"/>
                </a:cubicBezTo>
                <a:cubicBezTo>
                  <a:pt x="3018" y="596"/>
                  <a:pt x="3040" y="554"/>
                  <a:pt x="3040" y="554"/>
                </a:cubicBezTo>
                <a:cubicBezTo>
                  <a:pt x="3137" y="560"/>
                  <a:pt x="3208" y="572"/>
                  <a:pt x="3304" y="546"/>
                </a:cubicBezTo>
                <a:cubicBezTo>
                  <a:pt x="3332" y="538"/>
                  <a:pt x="3352" y="514"/>
                  <a:pt x="3376" y="498"/>
                </a:cubicBezTo>
                <a:cubicBezTo>
                  <a:pt x="3384" y="492"/>
                  <a:pt x="3474" y="468"/>
                  <a:pt x="3480" y="466"/>
                </a:cubicBezTo>
                <a:cubicBezTo>
                  <a:pt x="3520" y="454"/>
                  <a:pt x="3549" y="435"/>
                  <a:pt x="3592" y="426"/>
                </a:cubicBezTo>
                <a:cubicBezTo>
                  <a:pt x="3600" y="421"/>
                  <a:pt x="3607" y="413"/>
                  <a:pt x="3616" y="410"/>
                </a:cubicBezTo>
                <a:cubicBezTo>
                  <a:pt x="3629" y="405"/>
                  <a:pt x="3644" y="408"/>
                  <a:pt x="3656" y="402"/>
                </a:cubicBezTo>
                <a:cubicBezTo>
                  <a:pt x="3690" y="385"/>
                  <a:pt x="3678" y="360"/>
                  <a:pt x="3720" y="346"/>
                </a:cubicBezTo>
                <a:cubicBezTo>
                  <a:pt x="3740" y="315"/>
                  <a:pt x="3759" y="307"/>
                  <a:pt x="3792" y="290"/>
                </a:cubicBezTo>
                <a:cubicBezTo>
                  <a:pt x="3842" y="223"/>
                  <a:pt x="3835" y="207"/>
                  <a:pt x="3848" y="122"/>
                </a:cubicBezTo>
                <a:cubicBezTo>
                  <a:pt x="3851" y="100"/>
                  <a:pt x="3866" y="61"/>
                  <a:pt x="3872" y="42"/>
                </a:cubicBezTo>
                <a:cubicBezTo>
                  <a:pt x="3875" y="34"/>
                  <a:pt x="3880" y="18"/>
                  <a:pt x="3880" y="18"/>
                </a:cubicBezTo>
                <a:cubicBezTo>
                  <a:pt x="3946" y="40"/>
                  <a:pt x="3844" y="0"/>
                  <a:pt x="3936" y="82"/>
                </a:cubicBezTo>
                <a:cubicBezTo>
                  <a:pt x="3946" y="91"/>
                  <a:pt x="3963" y="87"/>
                  <a:pt x="3976" y="90"/>
                </a:cubicBezTo>
                <a:cubicBezTo>
                  <a:pt x="4052" y="151"/>
                  <a:pt x="4129" y="151"/>
                  <a:pt x="4224" y="170"/>
                </a:cubicBezTo>
                <a:cubicBezTo>
                  <a:pt x="4232" y="178"/>
                  <a:pt x="4238" y="189"/>
                  <a:pt x="4248" y="194"/>
                </a:cubicBezTo>
                <a:cubicBezTo>
                  <a:pt x="4263" y="202"/>
                  <a:pt x="4296" y="210"/>
                  <a:pt x="4296" y="210"/>
                </a:cubicBezTo>
                <a:cubicBezTo>
                  <a:pt x="4314" y="224"/>
                  <a:pt x="4336" y="234"/>
                  <a:pt x="4352" y="250"/>
                </a:cubicBezTo>
                <a:cubicBezTo>
                  <a:pt x="4390" y="288"/>
                  <a:pt x="4404" y="346"/>
                  <a:pt x="4440" y="386"/>
                </a:cubicBezTo>
                <a:cubicBezTo>
                  <a:pt x="4486" y="437"/>
                  <a:pt x="4537" y="467"/>
                  <a:pt x="4584" y="514"/>
                </a:cubicBezTo>
                <a:cubicBezTo>
                  <a:pt x="4591" y="521"/>
                  <a:pt x="4593" y="532"/>
                  <a:pt x="4600" y="538"/>
                </a:cubicBezTo>
                <a:cubicBezTo>
                  <a:pt x="4614" y="551"/>
                  <a:pt x="4634" y="556"/>
                  <a:pt x="4648" y="570"/>
                </a:cubicBezTo>
                <a:cubicBezTo>
                  <a:pt x="4685" y="607"/>
                  <a:pt x="4707" y="636"/>
                  <a:pt x="4752" y="658"/>
                </a:cubicBezTo>
                <a:cubicBezTo>
                  <a:pt x="4769" y="646"/>
                  <a:pt x="4782" y="628"/>
                  <a:pt x="4800" y="618"/>
                </a:cubicBezTo>
                <a:cubicBezTo>
                  <a:pt x="4810" y="613"/>
                  <a:pt x="4822" y="614"/>
                  <a:pt x="4832" y="610"/>
                </a:cubicBezTo>
                <a:cubicBezTo>
                  <a:pt x="4843" y="606"/>
                  <a:pt x="4854" y="600"/>
                  <a:pt x="4864" y="594"/>
                </a:cubicBezTo>
                <a:cubicBezTo>
                  <a:pt x="4880" y="584"/>
                  <a:pt x="4912" y="562"/>
                  <a:pt x="4912" y="562"/>
                </a:cubicBezTo>
                <a:cubicBezTo>
                  <a:pt x="4921" y="544"/>
                  <a:pt x="4925" y="523"/>
                  <a:pt x="4936" y="506"/>
                </a:cubicBezTo>
                <a:cubicBezTo>
                  <a:pt x="4942" y="497"/>
                  <a:pt x="4953" y="491"/>
                  <a:pt x="4960" y="482"/>
                </a:cubicBezTo>
                <a:cubicBezTo>
                  <a:pt x="4967" y="472"/>
                  <a:pt x="4966" y="457"/>
                  <a:pt x="4976" y="450"/>
                </a:cubicBezTo>
                <a:cubicBezTo>
                  <a:pt x="4989" y="440"/>
                  <a:pt x="5009" y="442"/>
                  <a:pt x="5024" y="434"/>
                </a:cubicBezTo>
                <a:cubicBezTo>
                  <a:pt x="5050" y="421"/>
                  <a:pt x="5072" y="402"/>
                  <a:pt x="5096" y="386"/>
                </a:cubicBezTo>
                <a:cubicBezTo>
                  <a:pt x="5104" y="381"/>
                  <a:pt x="5120" y="370"/>
                  <a:pt x="5120" y="370"/>
                </a:cubicBezTo>
                <a:cubicBezTo>
                  <a:pt x="5144" y="386"/>
                  <a:pt x="5168" y="402"/>
                  <a:pt x="5192" y="418"/>
                </a:cubicBezTo>
                <a:cubicBezTo>
                  <a:pt x="5203" y="425"/>
                  <a:pt x="5205" y="443"/>
                  <a:pt x="5216" y="450"/>
                </a:cubicBezTo>
                <a:cubicBezTo>
                  <a:pt x="5246" y="470"/>
                  <a:pt x="5295" y="471"/>
                  <a:pt x="5328" y="482"/>
                </a:cubicBezTo>
                <a:cubicBezTo>
                  <a:pt x="5350" y="515"/>
                  <a:pt x="5387" y="538"/>
                  <a:pt x="5424" y="554"/>
                </a:cubicBezTo>
                <a:cubicBezTo>
                  <a:pt x="5439" y="561"/>
                  <a:pt x="5472" y="570"/>
                  <a:pt x="5472" y="570"/>
                </a:cubicBezTo>
                <a:cubicBezTo>
                  <a:pt x="5484" y="587"/>
                  <a:pt x="5500" y="601"/>
                  <a:pt x="5512" y="618"/>
                </a:cubicBezTo>
                <a:cubicBezTo>
                  <a:pt x="5517" y="625"/>
                  <a:pt x="5516" y="634"/>
                  <a:pt x="5520" y="642"/>
                </a:cubicBezTo>
                <a:cubicBezTo>
                  <a:pt x="5534" y="670"/>
                  <a:pt x="5541" y="670"/>
                  <a:pt x="5568" y="690"/>
                </a:cubicBezTo>
                <a:cubicBezTo>
                  <a:pt x="5597" y="777"/>
                  <a:pt x="5634" y="757"/>
                  <a:pt x="5680" y="826"/>
                </a:cubicBezTo>
                <a:cubicBezTo>
                  <a:pt x="5699" y="854"/>
                  <a:pt x="5736" y="892"/>
                  <a:pt x="5768" y="906"/>
                </a:cubicBezTo>
                <a:cubicBezTo>
                  <a:pt x="5783" y="913"/>
                  <a:pt x="5801" y="914"/>
                  <a:pt x="5816" y="922"/>
                </a:cubicBezTo>
                <a:cubicBezTo>
                  <a:pt x="5821" y="925"/>
                  <a:pt x="5827" y="927"/>
                  <a:pt x="5832" y="9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9" descr="vogelschwarm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692280"/>
            <a:ext cx="1143000" cy="64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schweiz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1773360"/>
            <a:ext cx="1469880" cy="1031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5" descr="ski-holidays-kirchberg-v284t"/>
          <p:cNvPicPr/>
          <p:nvPr/>
        </p:nvPicPr>
        <p:blipFill>
          <a:blip r:embed="rId7"/>
          <a:stretch/>
        </p:blipFill>
        <p:spPr>
          <a:xfrm>
            <a:off x="34920" y="2349360"/>
            <a:ext cx="1027080" cy="1368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26"/>
          <p:cNvSpPr/>
          <p:nvPr/>
        </p:nvSpPr>
        <p:spPr>
          <a:xfrm>
            <a:off x="8028000" y="2852640"/>
            <a:ext cx="79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C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108000" y="3789360"/>
            <a:ext cx="79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C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7:04Z</dcterms:created>
  <dc:creator>user</dc:creator>
  <dc:description/>
  <dc:language>en-US</dc:language>
  <cp:lastModifiedBy>Valued Acer Customer</cp:lastModifiedBy>
  <dcterms:modified xsi:type="dcterms:W3CDTF">2010-03-29T21:39:53Z</dcterms:modified>
  <cp:revision>29</cp:revision>
  <dc:subject/>
  <dc:title>Folie 1</dc:title>
</cp:coreProperties>
</file>